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applause.wav" ContentType="audio/x-wav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A7363-0D28-43F2-B77F-AF22867F945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5321A-C3F0-4B64-8870-2AA2B451FB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15971-D049-4C53-BBC7-C2EE88CE34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1F3-8D4E-4283-9ADB-25194F05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BBF-0671-4D99-9DAD-DA25ABE3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A79A-C15E-4048-A773-2B4C4B90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F40C-7BAB-40BB-8E81-4B2BBAA4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A3F0-505A-48C4-BAC1-8F90A7DF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C04-1E72-4F77-8E2A-E3407C17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B6E-D25B-41B6-94EB-1AE15A68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A49-700B-416C-BADE-D0C9A0C3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38EC-3AC5-421C-9EBD-4F5030DB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AAF-BE08-4D2E-9CC7-A1FC7CA0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C5E-194D-4374-89CC-BAC814EA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1FB-7FF3-4973-86CA-33E9116E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C5358-F029-4507-BA17-F57DD5F96C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192480" y="4009320"/>
            <a:ext cx="50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苏武是西汉大臣，他在北海边牧羊</a:t>
            </a:r>
            <a:r>
              <a:rPr b="1" lang="en-US" sz="2400" spc="-1" strike="noStrike">
                <a:solidFill>
                  <a:srgbClr val="8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800000"/>
                </a:solidFill>
                <a:latin typeface="宋体"/>
              </a:rPr>
              <a:t>年不肯屈服的英雄故事，直到今天仍然触动着人们的心灵。苏武为什么去牧羊呢？他是怎样的一个人？让我们一起走进苏武，走进他的故事吧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1258920" y="1808280"/>
            <a:ext cx="7456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拱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红妆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海枯石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惊胆碎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矩形 1"/>
          <p:cNvSpPr/>
          <p:nvPr/>
        </p:nvSpPr>
        <p:spPr>
          <a:xfrm>
            <a:off x="2065320" y="1817640"/>
            <a:ext cx="629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敬畏，服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泛指妇女的艳丽装束。也代指青年妇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中华儿女多奇志，不爱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红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爱武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海水干涸，石头风化成土。形容经历极久远的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们曾经在那里发誓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海枯石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永不变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人极度恐惧惊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1"/>
          <p:cNvSpPr/>
          <p:nvPr/>
        </p:nvSpPr>
        <p:spPr>
          <a:xfrm>
            <a:off x="3907080" y="18572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社稷    江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2162160" y="244008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都可以用来指代“国家”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社稷”现多指国家，具有政治意义。“江山”是江河和山岭，多指国家的疆土或政权，倾向于版图意义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皇帝只有顺应民心，才能使国家富强，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社稷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安定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小兴安岭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江山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如画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吸引了很多游客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8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组合 4"/>
          <p:cNvGrpSpPr/>
          <p:nvPr/>
        </p:nvGrpSpPr>
        <p:grpSpPr>
          <a:xfrm>
            <a:off x="681120" y="2529000"/>
            <a:ext cx="1670040" cy="459720"/>
            <a:chOff x="681120" y="2529000"/>
            <a:chExt cx="1670040" cy="459720"/>
          </a:xfrm>
        </p:grpSpPr>
        <p:pic>
          <p:nvPicPr>
            <p:cNvPr id="152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58336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Box 3"/>
            <p:cNvSpPr/>
            <p:nvPr/>
          </p:nvSpPr>
          <p:spPr>
            <a:xfrm>
              <a:off x="1024200" y="252900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组合 20"/>
          <p:cNvGrpSpPr/>
          <p:nvPr/>
        </p:nvGrpSpPr>
        <p:grpSpPr>
          <a:xfrm>
            <a:off x="681120" y="3086280"/>
            <a:ext cx="1670040" cy="459720"/>
            <a:chOff x="681120" y="3086280"/>
            <a:chExt cx="1670040" cy="459720"/>
          </a:xfrm>
        </p:grpSpPr>
        <p:pic>
          <p:nvPicPr>
            <p:cNvPr id="155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1406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22"/>
            <p:cNvSpPr/>
            <p:nvPr/>
          </p:nvSpPr>
          <p:spPr>
            <a:xfrm>
              <a:off x="1024200" y="30862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组合 23"/>
          <p:cNvGrpSpPr/>
          <p:nvPr/>
        </p:nvGrpSpPr>
        <p:grpSpPr>
          <a:xfrm>
            <a:off x="723960" y="4754520"/>
            <a:ext cx="1670040" cy="459720"/>
            <a:chOff x="723960" y="4754520"/>
            <a:chExt cx="1670040" cy="459720"/>
          </a:xfrm>
        </p:grpSpPr>
        <p:pic>
          <p:nvPicPr>
            <p:cNvPr id="158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723960" y="48088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Box 25"/>
            <p:cNvSpPr/>
            <p:nvPr/>
          </p:nvSpPr>
          <p:spPr>
            <a:xfrm>
              <a:off x="1067040" y="47545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966960" y="2119320"/>
            <a:ext cx="743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身体折磨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苏武在北海边经受的身体上的非人折磨和他坚定的态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小节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心灵折磨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苏武心灵上受到的残酷的折磨和其坚贞不屈的态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7"/>
          <p:cNvSpPr/>
          <p:nvPr/>
        </p:nvSpPr>
        <p:spPr>
          <a:xfrm>
            <a:off x="1457280" y="2736720"/>
            <a:ext cx="6162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顽强不屈、不畏艰难、忠于汉室、气节坚定的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882720" y="1676520"/>
            <a:ext cx="731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觉得苏武是一个什么样的人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64" name="矩形 11"/>
          <p:cNvSpPr/>
          <p:nvPr/>
        </p:nvSpPr>
        <p:spPr>
          <a:xfrm>
            <a:off x="1017720" y="290988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诗主要从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身体折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心灵折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方面写苏武在北海边经受的身体上的非人折磨和他坚定的态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167"/>
          <p:cNvSpPr/>
          <p:nvPr/>
        </p:nvSpPr>
        <p:spPr>
          <a:xfrm>
            <a:off x="996840" y="230040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√”给加点字选择正确的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í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i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iā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声  　　　　　　　　　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īn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áo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空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wé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èi)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iōn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ōnɡ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n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41"/>
          <p:cNvSpPr/>
          <p:nvPr/>
        </p:nvSpPr>
        <p:spPr>
          <a:xfrm>
            <a:off x="1855080" y="3117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2355480" y="3182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41"/>
          <p:cNvSpPr/>
          <p:nvPr/>
        </p:nvSpPr>
        <p:spPr>
          <a:xfrm>
            <a:off x="5218920" y="315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41"/>
          <p:cNvSpPr/>
          <p:nvPr/>
        </p:nvSpPr>
        <p:spPr>
          <a:xfrm>
            <a:off x="1570680" y="367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1"/>
          <p:cNvSpPr/>
          <p:nvPr/>
        </p:nvSpPr>
        <p:spPr>
          <a:xfrm>
            <a:off x="5474520" y="365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8"/>
          <p:cNvSpPr/>
          <p:nvPr/>
        </p:nvSpPr>
        <p:spPr>
          <a:xfrm>
            <a:off x="6619320" y="3246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9"/>
          <p:cNvSpPr/>
          <p:nvPr/>
        </p:nvSpPr>
        <p:spPr>
          <a:xfrm>
            <a:off x="3049200" y="3801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0"/>
          <p:cNvSpPr/>
          <p:nvPr/>
        </p:nvSpPr>
        <p:spPr>
          <a:xfrm>
            <a:off x="6177960" y="378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5" name="矩形 13"/>
          <p:cNvSpPr/>
          <p:nvPr/>
        </p:nvSpPr>
        <p:spPr>
          <a:xfrm>
            <a:off x="2140200" y="43038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4"/>
          <p:cNvSpPr/>
          <p:nvPr/>
        </p:nvSpPr>
        <p:spPr>
          <a:xfrm>
            <a:off x="4345200" y="4356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41"/>
          <p:cNvSpPr/>
          <p:nvPr/>
        </p:nvSpPr>
        <p:spPr>
          <a:xfrm>
            <a:off x="1586520" y="422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41"/>
          <p:cNvSpPr/>
          <p:nvPr/>
        </p:nvSpPr>
        <p:spPr>
          <a:xfrm>
            <a:off x="3883680" y="424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1625760" y="148752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辨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毡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毯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笳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茄（　　　）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1"/>
          <p:cNvSpPr/>
          <p:nvPr/>
        </p:nvSpPr>
        <p:spPr>
          <a:xfrm>
            <a:off x="4659480" y="210996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旄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旗（　　　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帷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伟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左大括号 2"/>
          <p:cNvSpPr/>
          <p:nvPr/>
        </p:nvSpPr>
        <p:spPr>
          <a:xfrm>
            <a:off x="1636560" y="2325600"/>
            <a:ext cx="144720" cy="792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左大括号 15"/>
          <p:cNvSpPr/>
          <p:nvPr/>
        </p:nvSpPr>
        <p:spPr>
          <a:xfrm>
            <a:off x="4587840" y="2325600"/>
            <a:ext cx="142920" cy="79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360"/>
              <a:gd name="textAreaBottom" fmla="*/ 78876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左大括号 16"/>
          <p:cNvSpPr/>
          <p:nvPr/>
        </p:nvSpPr>
        <p:spPr>
          <a:xfrm>
            <a:off x="1625760" y="3419640"/>
            <a:ext cx="142560" cy="792000"/>
          </a:xfrm>
          <a:custGeom>
            <a:avLst/>
            <a:gdLst>
              <a:gd name="textAreaLeft" fmla="*/ 91080 w 142560"/>
              <a:gd name="textAreaRight" fmla="*/ 142920 w 1425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左大括号 17"/>
          <p:cNvSpPr/>
          <p:nvPr/>
        </p:nvSpPr>
        <p:spPr>
          <a:xfrm>
            <a:off x="4576680" y="3419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8"/>
          <p:cNvSpPr/>
          <p:nvPr/>
        </p:nvSpPr>
        <p:spPr>
          <a:xfrm>
            <a:off x="2593800" y="2138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油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9"/>
          <p:cNvSpPr/>
          <p:nvPr/>
        </p:nvSpPr>
        <p:spPr>
          <a:xfrm>
            <a:off x="2593800" y="269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毛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8"/>
          <p:cNvSpPr/>
          <p:nvPr/>
        </p:nvSpPr>
        <p:spPr>
          <a:xfrm>
            <a:off x="5514840" y="2219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旄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9"/>
          <p:cNvSpPr/>
          <p:nvPr/>
        </p:nvSpPr>
        <p:spPr>
          <a:xfrm>
            <a:off x="5515560" y="2789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红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20"/>
          <p:cNvSpPr/>
          <p:nvPr/>
        </p:nvSpPr>
        <p:spPr>
          <a:xfrm>
            <a:off x="2593800" y="326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笳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2"/>
          <p:cNvSpPr/>
          <p:nvPr/>
        </p:nvSpPr>
        <p:spPr>
          <a:xfrm>
            <a:off x="2591280" y="3821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茄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23"/>
          <p:cNvSpPr/>
          <p:nvPr/>
        </p:nvSpPr>
        <p:spPr>
          <a:xfrm>
            <a:off x="5528880" y="33321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空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4"/>
          <p:cNvSpPr/>
          <p:nvPr/>
        </p:nvSpPr>
        <p:spPr>
          <a:xfrm>
            <a:off x="5528880" y="3870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伟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598320" y="1098720"/>
            <a:ext cx="7777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选词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犹如      假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武在匈奴受尽了折磨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换成你，你会怎样做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武的精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面旗帜，激励着每一个有良知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稷　　江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民为邦本，只有百姓安居乐业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才能安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祖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画，让人赞叹不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5"/>
          <p:cNvSpPr/>
          <p:nvPr/>
        </p:nvSpPr>
        <p:spPr>
          <a:xfrm>
            <a:off x="5008320" y="2316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假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3090600" y="342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犹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7"/>
          <p:cNvSpPr/>
          <p:nvPr/>
        </p:nvSpPr>
        <p:spPr>
          <a:xfrm>
            <a:off x="5803560" y="508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社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3090600" y="5634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江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1"/>
          <p:cNvSpPr/>
          <p:nvPr/>
        </p:nvSpPr>
        <p:spPr>
          <a:xfrm>
            <a:off x="826920" y="1290600"/>
            <a:ext cx="8017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能按要求写句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武是政治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扩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苏武对卫律说：“我是汉朝的使者，如果违背了使命，丧失了气节，活下去还有什么脸见人。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改为第三人称转述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6"/>
          <p:cNvSpPr/>
          <p:nvPr/>
        </p:nvSpPr>
        <p:spPr>
          <a:xfrm>
            <a:off x="1379520" y="2332080"/>
            <a:ext cx="59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苏武是我国汉朝时期一个著名的政治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8"/>
          <p:cNvSpPr/>
          <p:nvPr/>
        </p:nvSpPr>
        <p:spPr>
          <a:xfrm>
            <a:off x="1279440" y="4564080"/>
            <a:ext cx="65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苏武对卫律说，他是汉朝的使者，如果违背了使命，丧失了气节，活下去没有什么脸见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1"/>
          <p:cNvSpPr/>
          <p:nvPr/>
        </p:nvSpPr>
        <p:spPr>
          <a:xfrm>
            <a:off x="797040" y="177948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诗句补充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咬定青山不放松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根原在破岩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6"/>
          <p:cNvSpPr/>
          <p:nvPr/>
        </p:nvSpPr>
        <p:spPr>
          <a:xfrm>
            <a:off x="3527280" y="351144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千磨万击还坚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3592440" y="4087800"/>
            <a:ext cx="50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任尔东西南北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1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图片 1" descr=""/>
          <p:cNvPicPr/>
          <p:nvPr/>
        </p:nvPicPr>
        <p:blipFill>
          <a:blip r:embed="rId7"/>
          <a:stretch/>
        </p:blipFill>
        <p:spPr>
          <a:xfrm>
            <a:off x="2103480" y="2523960"/>
            <a:ext cx="5078520" cy="2846520"/>
          </a:xfrm>
          <a:prstGeom prst="rect">
            <a:avLst/>
          </a:prstGeom>
          <a:ln w="0">
            <a:noFill/>
          </a:ln>
        </p:spPr>
      </p:pic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74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苏武牧羊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40588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3652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写的生字，理解“旄、笳、拱服、海枯石烂、心惊胆碎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2218680" y="257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匈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8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87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横折钩略向内斜，“凶”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略外露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1749600" y="1900080"/>
            <a:ext cx="205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ō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Freeform 59"/>
          <p:cNvSpPr/>
          <p:nvPr/>
        </p:nvSpPr>
        <p:spPr>
          <a:xfrm>
            <a:off x="6972480" y="3745080"/>
            <a:ext cx="264960" cy="826920"/>
          </a:xfrm>
          <a:custGeom>
            <a:avLst/>
            <a:gdLst/>
            <a:ahLst/>
            <a:rect l="l" t="t" r="r" b="b"/>
            <a:pathLst>
              <a:path w="336" h="1042">
                <a:moveTo>
                  <a:pt x="336" y="165"/>
                </a:moveTo>
                <a:lnTo>
                  <a:pt x="336" y="180"/>
                </a:lnTo>
                <a:lnTo>
                  <a:pt x="332" y="194"/>
                </a:lnTo>
                <a:lnTo>
                  <a:pt x="330" y="209"/>
                </a:lnTo>
                <a:lnTo>
                  <a:pt x="324" y="224"/>
                </a:lnTo>
                <a:lnTo>
                  <a:pt x="317" y="242"/>
                </a:lnTo>
                <a:lnTo>
                  <a:pt x="309" y="259"/>
                </a:lnTo>
                <a:lnTo>
                  <a:pt x="305" y="268"/>
                </a:lnTo>
                <a:lnTo>
                  <a:pt x="300" y="280"/>
                </a:lnTo>
                <a:lnTo>
                  <a:pt x="296" y="290"/>
                </a:lnTo>
                <a:lnTo>
                  <a:pt x="290" y="301"/>
                </a:lnTo>
                <a:lnTo>
                  <a:pt x="284" y="313"/>
                </a:lnTo>
                <a:lnTo>
                  <a:pt x="278" y="326"/>
                </a:lnTo>
                <a:lnTo>
                  <a:pt x="273" y="341"/>
                </a:lnTo>
                <a:lnTo>
                  <a:pt x="267" y="357"/>
                </a:lnTo>
                <a:lnTo>
                  <a:pt x="261" y="374"/>
                </a:lnTo>
                <a:lnTo>
                  <a:pt x="255" y="391"/>
                </a:lnTo>
                <a:lnTo>
                  <a:pt x="250" y="410"/>
                </a:lnTo>
                <a:lnTo>
                  <a:pt x="244" y="430"/>
                </a:lnTo>
                <a:lnTo>
                  <a:pt x="240" y="451"/>
                </a:lnTo>
                <a:lnTo>
                  <a:pt x="234" y="472"/>
                </a:lnTo>
                <a:lnTo>
                  <a:pt x="230" y="495"/>
                </a:lnTo>
                <a:lnTo>
                  <a:pt x="227" y="518"/>
                </a:lnTo>
                <a:lnTo>
                  <a:pt x="223" y="543"/>
                </a:lnTo>
                <a:lnTo>
                  <a:pt x="219" y="568"/>
                </a:lnTo>
                <a:lnTo>
                  <a:pt x="215" y="595"/>
                </a:lnTo>
                <a:lnTo>
                  <a:pt x="211" y="622"/>
                </a:lnTo>
                <a:lnTo>
                  <a:pt x="209" y="650"/>
                </a:lnTo>
                <a:lnTo>
                  <a:pt x="205" y="675"/>
                </a:lnTo>
                <a:lnTo>
                  <a:pt x="202" y="702"/>
                </a:lnTo>
                <a:lnTo>
                  <a:pt x="198" y="725"/>
                </a:lnTo>
                <a:lnTo>
                  <a:pt x="194" y="750"/>
                </a:lnTo>
                <a:lnTo>
                  <a:pt x="190" y="773"/>
                </a:lnTo>
                <a:lnTo>
                  <a:pt x="184" y="794"/>
                </a:lnTo>
                <a:lnTo>
                  <a:pt x="180" y="815"/>
                </a:lnTo>
                <a:lnTo>
                  <a:pt x="177" y="835"/>
                </a:lnTo>
                <a:lnTo>
                  <a:pt x="171" y="854"/>
                </a:lnTo>
                <a:lnTo>
                  <a:pt x="167" y="871"/>
                </a:lnTo>
                <a:lnTo>
                  <a:pt x="163" y="888"/>
                </a:lnTo>
                <a:lnTo>
                  <a:pt x="159" y="904"/>
                </a:lnTo>
                <a:lnTo>
                  <a:pt x="156" y="917"/>
                </a:lnTo>
                <a:lnTo>
                  <a:pt x="152" y="931"/>
                </a:lnTo>
                <a:lnTo>
                  <a:pt x="150" y="944"/>
                </a:lnTo>
                <a:lnTo>
                  <a:pt x="144" y="954"/>
                </a:lnTo>
                <a:lnTo>
                  <a:pt x="138" y="965"/>
                </a:lnTo>
                <a:lnTo>
                  <a:pt x="133" y="975"/>
                </a:lnTo>
                <a:lnTo>
                  <a:pt x="127" y="984"/>
                </a:lnTo>
                <a:lnTo>
                  <a:pt x="121" y="994"/>
                </a:lnTo>
                <a:lnTo>
                  <a:pt x="115" y="1002"/>
                </a:lnTo>
                <a:lnTo>
                  <a:pt x="109" y="1009"/>
                </a:lnTo>
                <a:lnTo>
                  <a:pt x="106" y="1015"/>
                </a:lnTo>
                <a:lnTo>
                  <a:pt x="100" y="1021"/>
                </a:lnTo>
                <a:lnTo>
                  <a:pt x="96" y="1027"/>
                </a:lnTo>
                <a:lnTo>
                  <a:pt x="90" y="1032"/>
                </a:lnTo>
                <a:lnTo>
                  <a:pt x="86" y="1036"/>
                </a:lnTo>
                <a:lnTo>
                  <a:pt x="83" y="1038"/>
                </a:lnTo>
                <a:lnTo>
                  <a:pt x="79" y="1040"/>
                </a:lnTo>
                <a:lnTo>
                  <a:pt x="75" y="1042"/>
                </a:lnTo>
                <a:lnTo>
                  <a:pt x="71" y="1042"/>
                </a:lnTo>
                <a:lnTo>
                  <a:pt x="65" y="1042"/>
                </a:lnTo>
                <a:lnTo>
                  <a:pt x="61" y="1040"/>
                </a:lnTo>
                <a:lnTo>
                  <a:pt x="56" y="1040"/>
                </a:lnTo>
                <a:lnTo>
                  <a:pt x="52" y="1038"/>
                </a:lnTo>
                <a:lnTo>
                  <a:pt x="46" y="1034"/>
                </a:lnTo>
                <a:lnTo>
                  <a:pt x="42" y="1030"/>
                </a:lnTo>
                <a:lnTo>
                  <a:pt x="38" y="1027"/>
                </a:lnTo>
                <a:lnTo>
                  <a:pt x="35" y="1023"/>
                </a:lnTo>
                <a:lnTo>
                  <a:pt x="31" y="1017"/>
                </a:lnTo>
                <a:lnTo>
                  <a:pt x="29" y="1009"/>
                </a:lnTo>
                <a:lnTo>
                  <a:pt x="25" y="1004"/>
                </a:lnTo>
                <a:lnTo>
                  <a:pt x="21" y="996"/>
                </a:lnTo>
                <a:lnTo>
                  <a:pt x="19" y="986"/>
                </a:lnTo>
                <a:lnTo>
                  <a:pt x="15" y="977"/>
                </a:lnTo>
                <a:lnTo>
                  <a:pt x="14" y="967"/>
                </a:lnTo>
                <a:lnTo>
                  <a:pt x="10" y="956"/>
                </a:lnTo>
                <a:lnTo>
                  <a:pt x="8" y="946"/>
                </a:lnTo>
                <a:lnTo>
                  <a:pt x="4" y="934"/>
                </a:lnTo>
                <a:lnTo>
                  <a:pt x="2" y="925"/>
                </a:lnTo>
                <a:lnTo>
                  <a:pt x="2" y="911"/>
                </a:lnTo>
                <a:lnTo>
                  <a:pt x="0" y="898"/>
                </a:lnTo>
                <a:lnTo>
                  <a:pt x="0" y="885"/>
                </a:lnTo>
                <a:lnTo>
                  <a:pt x="0" y="871"/>
                </a:lnTo>
                <a:lnTo>
                  <a:pt x="0" y="856"/>
                </a:lnTo>
                <a:lnTo>
                  <a:pt x="2" y="839"/>
                </a:lnTo>
                <a:lnTo>
                  <a:pt x="2" y="823"/>
                </a:lnTo>
                <a:lnTo>
                  <a:pt x="6" y="806"/>
                </a:lnTo>
                <a:lnTo>
                  <a:pt x="8" y="787"/>
                </a:lnTo>
                <a:lnTo>
                  <a:pt x="12" y="768"/>
                </a:lnTo>
                <a:lnTo>
                  <a:pt x="15" y="748"/>
                </a:lnTo>
                <a:lnTo>
                  <a:pt x="19" y="729"/>
                </a:lnTo>
                <a:lnTo>
                  <a:pt x="25" y="708"/>
                </a:lnTo>
                <a:lnTo>
                  <a:pt x="31" y="666"/>
                </a:lnTo>
                <a:lnTo>
                  <a:pt x="37" y="624"/>
                </a:lnTo>
                <a:lnTo>
                  <a:pt x="42" y="577"/>
                </a:lnTo>
                <a:lnTo>
                  <a:pt x="48" y="531"/>
                </a:lnTo>
                <a:lnTo>
                  <a:pt x="54" y="483"/>
                </a:lnTo>
                <a:lnTo>
                  <a:pt x="58" y="458"/>
                </a:lnTo>
                <a:lnTo>
                  <a:pt x="60" y="434"/>
                </a:lnTo>
                <a:lnTo>
                  <a:pt x="63" y="407"/>
                </a:lnTo>
                <a:lnTo>
                  <a:pt x="65" y="380"/>
                </a:lnTo>
                <a:lnTo>
                  <a:pt x="69" y="353"/>
                </a:lnTo>
                <a:lnTo>
                  <a:pt x="71" y="326"/>
                </a:lnTo>
                <a:lnTo>
                  <a:pt x="71" y="299"/>
                </a:lnTo>
                <a:lnTo>
                  <a:pt x="71" y="274"/>
                </a:lnTo>
                <a:lnTo>
                  <a:pt x="69" y="249"/>
                </a:lnTo>
                <a:lnTo>
                  <a:pt x="69" y="226"/>
                </a:lnTo>
                <a:lnTo>
                  <a:pt x="67" y="205"/>
                </a:lnTo>
                <a:lnTo>
                  <a:pt x="65" y="186"/>
                </a:lnTo>
                <a:lnTo>
                  <a:pt x="63" y="167"/>
                </a:lnTo>
                <a:lnTo>
                  <a:pt x="60" y="149"/>
                </a:lnTo>
                <a:lnTo>
                  <a:pt x="58" y="134"/>
                </a:lnTo>
                <a:lnTo>
                  <a:pt x="54" y="121"/>
                </a:lnTo>
                <a:lnTo>
                  <a:pt x="50" y="107"/>
                </a:lnTo>
                <a:lnTo>
                  <a:pt x="46" y="98"/>
                </a:lnTo>
                <a:lnTo>
                  <a:pt x="40" y="86"/>
                </a:lnTo>
                <a:lnTo>
                  <a:pt x="37" y="78"/>
                </a:lnTo>
                <a:lnTo>
                  <a:pt x="31" y="73"/>
                </a:lnTo>
                <a:lnTo>
                  <a:pt x="25" y="67"/>
                </a:lnTo>
                <a:lnTo>
                  <a:pt x="19" y="61"/>
                </a:lnTo>
                <a:lnTo>
                  <a:pt x="15" y="57"/>
                </a:lnTo>
                <a:lnTo>
                  <a:pt x="12" y="53"/>
                </a:lnTo>
                <a:lnTo>
                  <a:pt x="8" y="48"/>
                </a:lnTo>
                <a:lnTo>
                  <a:pt x="6" y="44"/>
                </a:lnTo>
                <a:lnTo>
                  <a:pt x="4" y="40"/>
                </a:lnTo>
                <a:lnTo>
                  <a:pt x="2" y="34"/>
                </a:lnTo>
                <a:lnTo>
                  <a:pt x="2" y="30"/>
                </a:lnTo>
                <a:lnTo>
                  <a:pt x="2" y="27"/>
                </a:lnTo>
                <a:lnTo>
                  <a:pt x="4" y="23"/>
                </a:lnTo>
                <a:lnTo>
                  <a:pt x="6" y="19"/>
                </a:lnTo>
                <a:lnTo>
                  <a:pt x="8" y="17"/>
                </a:lnTo>
                <a:lnTo>
                  <a:pt x="12" y="13"/>
                </a:lnTo>
                <a:lnTo>
                  <a:pt x="15" y="9"/>
                </a:lnTo>
                <a:lnTo>
                  <a:pt x="19" y="7"/>
                </a:lnTo>
                <a:lnTo>
                  <a:pt x="25" y="5"/>
                </a:lnTo>
                <a:lnTo>
                  <a:pt x="29" y="4"/>
                </a:lnTo>
                <a:lnTo>
                  <a:pt x="33" y="2"/>
                </a:lnTo>
                <a:lnTo>
                  <a:pt x="38" y="0"/>
                </a:lnTo>
                <a:lnTo>
                  <a:pt x="46" y="0"/>
                </a:lnTo>
                <a:lnTo>
                  <a:pt x="52" y="0"/>
                </a:lnTo>
                <a:lnTo>
                  <a:pt x="61" y="2"/>
                </a:lnTo>
                <a:lnTo>
                  <a:pt x="71" y="4"/>
                </a:lnTo>
                <a:lnTo>
                  <a:pt x="81" y="5"/>
                </a:lnTo>
                <a:lnTo>
                  <a:pt x="92" y="7"/>
                </a:lnTo>
                <a:lnTo>
                  <a:pt x="106" y="11"/>
                </a:lnTo>
                <a:lnTo>
                  <a:pt x="119" y="13"/>
                </a:lnTo>
                <a:lnTo>
                  <a:pt x="133" y="19"/>
                </a:lnTo>
                <a:lnTo>
                  <a:pt x="148" y="23"/>
                </a:lnTo>
                <a:lnTo>
                  <a:pt x="163" y="29"/>
                </a:lnTo>
                <a:lnTo>
                  <a:pt x="179" y="34"/>
                </a:lnTo>
                <a:lnTo>
                  <a:pt x="196" y="42"/>
                </a:lnTo>
                <a:lnTo>
                  <a:pt x="213" y="50"/>
                </a:lnTo>
                <a:lnTo>
                  <a:pt x="228" y="57"/>
                </a:lnTo>
                <a:lnTo>
                  <a:pt x="244" y="65"/>
                </a:lnTo>
                <a:lnTo>
                  <a:pt x="257" y="73"/>
                </a:lnTo>
                <a:lnTo>
                  <a:pt x="269" y="80"/>
                </a:lnTo>
                <a:lnTo>
                  <a:pt x="280" y="88"/>
                </a:lnTo>
                <a:lnTo>
                  <a:pt x="292" y="96"/>
                </a:lnTo>
                <a:lnTo>
                  <a:pt x="301" y="103"/>
                </a:lnTo>
                <a:lnTo>
                  <a:pt x="309" y="111"/>
                </a:lnTo>
                <a:lnTo>
                  <a:pt x="317" y="121"/>
                </a:lnTo>
                <a:lnTo>
                  <a:pt x="323" y="128"/>
                </a:lnTo>
                <a:lnTo>
                  <a:pt x="326" y="136"/>
                </a:lnTo>
                <a:lnTo>
                  <a:pt x="330" y="144"/>
                </a:lnTo>
                <a:lnTo>
                  <a:pt x="334" y="151"/>
                </a:lnTo>
                <a:lnTo>
                  <a:pt x="336" y="159"/>
                </a:lnTo>
                <a:lnTo>
                  <a:pt x="336" y="1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60"/>
          <p:cNvSpPr/>
          <p:nvPr/>
        </p:nvSpPr>
        <p:spPr>
          <a:xfrm>
            <a:off x="5599080" y="4010040"/>
            <a:ext cx="1454040" cy="614520"/>
          </a:xfrm>
          <a:custGeom>
            <a:avLst/>
            <a:gdLst/>
            <a:ahLst/>
            <a:rect l="l" t="t" r="r" b="b"/>
            <a:pathLst>
              <a:path w="1833" h="773">
                <a:moveTo>
                  <a:pt x="1833" y="387"/>
                </a:moveTo>
                <a:lnTo>
                  <a:pt x="1833" y="443"/>
                </a:lnTo>
                <a:lnTo>
                  <a:pt x="1833" y="499"/>
                </a:lnTo>
                <a:lnTo>
                  <a:pt x="1779" y="505"/>
                </a:lnTo>
                <a:lnTo>
                  <a:pt x="1725" y="512"/>
                </a:lnTo>
                <a:lnTo>
                  <a:pt x="1675" y="518"/>
                </a:lnTo>
                <a:lnTo>
                  <a:pt x="1624" y="526"/>
                </a:lnTo>
                <a:lnTo>
                  <a:pt x="1576" y="531"/>
                </a:lnTo>
                <a:lnTo>
                  <a:pt x="1528" y="537"/>
                </a:lnTo>
                <a:lnTo>
                  <a:pt x="1480" y="545"/>
                </a:lnTo>
                <a:lnTo>
                  <a:pt x="1433" y="551"/>
                </a:lnTo>
                <a:lnTo>
                  <a:pt x="1387" y="556"/>
                </a:lnTo>
                <a:lnTo>
                  <a:pt x="1343" y="562"/>
                </a:lnTo>
                <a:lnTo>
                  <a:pt x="1301" y="566"/>
                </a:lnTo>
                <a:lnTo>
                  <a:pt x="1259" y="572"/>
                </a:lnTo>
                <a:lnTo>
                  <a:pt x="1217" y="577"/>
                </a:lnTo>
                <a:lnTo>
                  <a:pt x="1176" y="583"/>
                </a:lnTo>
                <a:lnTo>
                  <a:pt x="1138" y="587"/>
                </a:lnTo>
                <a:lnTo>
                  <a:pt x="1100" y="593"/>
                </a:lnTo>
                <a:lnTo>
                  <a:pt x="1063" y="597"/>
                </a:lnTo>
                <a:lnTo>
                  <a:pt x="1027" y="602"/>
                </a:lnTo>
                <a:lnTo>
                  <a:pt x="992" y="606"/>
                </a:lnTo>
                <a:lnTo>
                  <a:pt x="959" y="612"/>
                </a:lnTo>
                <a:lnTo>
                  <a:pt x="925" y="616"/>
                </a:lnTo>
                <a:lnTo>
                  <a:pt x="894" y="620"/>
                </a:lnTo>
                <a:lnTo>
                  <a:pt x="863" y="624"/>
                </a:lnTo>
                <a:lnTo>
                  <a:pt x="835" y="627"/>
                </a:lnTo>
                <a:lnTo>
                  <a:pt x="806" y="633"/>
                </a:lnTo>
                <a:lnTo>
                  <a:pt x="777" y="637"/>
                </a:lnTo>
                <a:lnTo>
                  <a:pt x="752" y="641"/>
                </a:lnTo>
                <a:lnTo>
                  <a:pt x="727" y="645"/>
                </a:lnTo>
                <a:lnTo>
                  <a:pt x="702" y="648"/>
                </a:lnTo>
                <a:lnTo>
                  <a:pt x="679" y="652"/>
                </a:lnTo>
                <a:lnTo>
                  <a:pt x="656" y="654"/>
                </a:lnTo>
                <a:lnTo>
                  <a:pt x="637" y="658"/>
                </a:lnTo>
                <a:lnTo>
                  <a:pt x="616" y="662"/>
                </a:lnTo>
                <a:lnTo>
                  <a:pt x="597" y="666"/>
                </a:lnTo>
                <a:lnTo>
                  <a:pt x="577" y="670"/>
                </a:lnTo>
                <a:lnTo>
                  <a:pt x="558" y="672"/>
                </a:lnTo>
                <a:lnTo>
                  <a:pt x="541" y="675"/>
                </a:lnTo>
                <a:lnTo>
                  <a:pt x="524" y="679"/>
                </a:lnTo>
                <a:lnTo>
                  <a:pt x="506" y="681"/>
                </a:lnTo>
                <a:lnTo>
                  <a:pt x="491" y="685"/>
                </a:lnTo>
                <a:lnTo>
                  <a:pt x="474" y="687"/>
                </a:lnTo>
                <a:lnTo>
                  <a:pt x="460" y="691"/>
                </a:lnTo>
                <a:lnTo>
                  <a:pt x="445" y="693"/>
                </a:lnTo>
                <a:lnTo>
                  <a:pt x="432" y="695"/>
                </a:lnTo>
                <a:lnTo>
                  <a:pt x="416" y="698"/>
                </a:lnTo>
                <a:lnTo>
                  <a:pt x="405" y="700"/>
                </a:lnTo>
                <a:lnTo>
                  <a:pt x="391" y="702"/>
                </a:lnTo>
                <a:lnTo>
                  <a:pt x="380" y="706"/>
                </a:lnTo>
                <a:lnTo>
                  <a:pt x="368" y="708"/>
                </a:lnTo>
                <a:lnTo>
                  <a:pt x="357" y="710"/>
                </a:lnTo>
                <a:lnTo>
                  <a:pt x="347" y="712"/>
                </a:lnTo>
                <a:lnTo>
                  <a:pt x="337" y="714"/>
                </a:lnTo>
                <a:lnTo>
                  <a:pt x="328" y="716"/>
                </a:lnTo>
                <a:lnTo>
                  <a:pt x="320" y="718"/>
                </a:lnTo>
                <a:lnTo>
                  <a:pt x="311" y="720"/>
                </a:lnTo>
                <a:lnTo>
                  <a:pt x="303" y="721"/>
                </a:lnTo>
                <a:lnTo>
                  <a:pt x="297" y="723"/>
                </a:lnTo>
                <a:lnTo>
                  <a:pt x="290" y="725"/>
                </a:lnTo>
                <a:lnTo>
                  <a:pt x="284" y="725"/>
                </a:lnTo>
                <a:lnTo>
                  <a:pt x="280" y="727"/>
                </a:lnTo>
                <a:lnTo>
                  <a:pt x="274" y="729"/>
                </a:lnTo>
                <a:lnTo>
                  <a:pt x="270" y="731"/>
                </a:lnTo>
                <a:lnTo>
                  <a:pt x="266" y="731"/>
                </a:lnTo>
                <a:lnTo>
                  <a:pt x="263" y="733"/>
                </a:lnTo>
                <a:lnTo>
                  <a:pt x="251" y="743"/>
                </a:lnTo>
                <a:lnTo>
                  <a:pt x="240" y="750"/>
                </a:lnTo>
                <a:lnTo>
                  <a:pt x="228" y="756"/>
                </a:lnTo>
                <a:lnTo>
                  <a:pt x="218" y="762"/>
                </a:lnTo>
                <a:lnTo>
                  <a:pt x="209" y="766"/>
                </a:lnTo>
                <a:lnTo>
                  <a:pt x="199" y="767"/>
                </a:lnTo>
                <a:lnTo>
                  <a:pt x="192" y="769"/>
                </a:lnTo>
                <a:lnTo>
                  <a:pt x="186" y="769"/>
                </a:lnTo>
                <a:lnTo>
                  <a:pt x="180" y="771"/>
                </a:lnTo>
                <a:lnTo>
                  <a:pt x="174" y="773"/>
                </a:lnTo>
                <a:lnTo>
                  <a:pt x="169" y="773"/>
                </a:lnTo>
                <a:lnTo>
                  <a:pt x="161" y="773"/>
                </a:lnTo>
                <a:lnTo>
                  <a:pt x="155" y="771"/>
                </a:lnTo>
                <a:lnTo>
                  <a:pt x="149" y="769"/>
                </a:lnTo>
                <a:lnTo>
                  <a:pt x="144" y="766"/>
                </a:lnTo>
                <a:lnTo>
                  <a:pt x="136" y="762"/>
                </a:lnTo>
                <a:lnTo>
                  <a:pt x="130" y="758"/>
                </a:lnTo>
                <a:lnTo>
                  <a:pt x="123" y="752"/>
                </a:lnTo>
                <a:lnTo>
                  <a:pt x="117" y="746"/>
                </a:lnTo>
                <a:lnTo>
                  <a:pt x="109" y="741"/>
                </a:lnTo>
                <a:lnTo>
                  <a:pt x="101" y="733"/>
                </a:lnTo>
                <a:lnTo>
                  <a:pt x="94" y="725"/>
                </a:lnTo>
                <a:lnTo>
                  <a:pt x="84" y="718"/>
                </a:lnTo>
                <a:lnTo>
                  <a:pt x="76" y="708"/>
                </a:lnTo>
                <a:lnTo>
                  <a:pt x="59" y="695"/>
                </a:lnTo>
                <a:lnTo>
                  <a:pt x="46" y="681"/>
                </a:lnTo>
                <a:lnTo>
                  <a:pt x="38" y="673"/>
                </a:lnTo>
                <a:lnTo>
                  <a:pt x="32" y="668"/>
                </a:lnTo>
                <a:lnTo>
                  <a:pt x="27" y="660"/>
                </a:lnTo>
                <a:lnTo>
                  <a:pt x="21" y="654"/>
                </a:lnTo>
                <a:lnTo>
                  <a:pt x="15" y="648"/>
                </a:lnTo>
                <a:lnTo>
                  <a:pt x="11" y="641"/>
                </a:lnTo>
                <a:lnTo>
                  <a:pt x="7" y="635"/>
                </a:lnTo>
                <a:lnTo>
                  <a:pt x="4" y="629"/>
                </a:lnTo>
                <a:lnTo>
                  <a:pt x="2" y="624"/>
                </a:lnTo>
                <a:lnTo>
                  <a:pt x="0" y="620"/>
                </a:lnTo>
                <a:lnTo>
                  <a:pt x="0" y="614"/>
                </a:lnTo>
                <a:lnTo>
                  <a:pt x="0" y="610"/>
                </a:lnTo>
                <a:lnTo>
                  <a:pt x="0" y="604"/>
                </a:lnTo>
                <a:lnTo>
                  <a:pt x="2" y="599"/>
                </a:lnTo>
                <a:lnTo>
                  <a:pt x="5" y="591"/>
                </a:lnTo>
                <a:lnTo>
                  <a:pt x="11" y="585"/>
                </a:lnTo>
                <a:lnTo>
                  <a:pt x="17" y="577"/>
                </a:lnTo>
                <a:lnTo>
                  <a:pt x="25" y="572"/>
                </a:lnTo>
                <a:lnTo>
                  <a:pt x="34" y="566"/>
                </a:lnTo>
                <a:lnTo>
                  <a:pt x="46" y="560"/>
                </a:lnTo>
                <a:lnTo>
                  <a:pt x="52" y="556"/>
                </a:lnTo>
                <a:lnTo>
                  <a:pt x="57" y="553"/>
                </a:lnTo>
                <a:lnTo>
                  <a:pt x="61" y="549"/>
                </a:lnTo>
                <a:lnTo>
                  <a:pt x="67" y="543"/>
                </a:lnTo>
                <a:lnTo>
                  <a:pt x="71" y="537"/>
                </a:lnTo>
                <a:lnTo>
                  <a:pt x="75" y="531"/>
                </a:lnTo>
                <a:lnTo>
                  <a:pt x="78" y="524"/>
                </a:lnTo>
                <a:lnTo>
                  <a:pt x="82" y="514"/>
                </a:lnTo>
                <a:lnTo>
                  <a:pt x="86" y="506"/>
                </a:lnTo>
                <a:lnTo>
                  <a:pt x="90" y="497"/>
                </a:lnTo>
                <a:lnTo>
                  <a:pt x="92" y="485"/>
                </a:lnTo>
                <a:lnTo>
                  <a:pt x="96" y="476"/>
                </a:lnTo>
                <a:lnTo>
                  <a:pt x="99" y="462"/>
                </a:lnTo>
                <a:lnTo>
                  <a:pt x="101" y="451"/>
                </a:lnTo>
                <a:lnTo>
                  <a:pt x="105" y="437"/>
                </a:lnTo>
                <a:lnTo>
                  <a:pt x="107" y="424"/>
                </a:lnTo>
                <a:lnTo>
                  <a:pt x="113" y="401"/>
                </a:lnTo>
                <a:lnTo>
                  <a:pt x="117" y="376"/>
                </a:lnTo>
                <a:lnTo>
                  <a:pt x="119" y="351"/>
                </a:lnTo>
                <a:lnTo>
                  <a:pt x="119" y="326"/>
                </a:lnTo>
                <a:lnTo>
                  <a:pt x="119" y="299"/>
                </a:lnTo>
                <a:lnTo>
                  <a:pt x="117" y="274"/>
                </a:lnTo>
                <a:lnTo>
                  <a:pt x="113" y="251"/>
                </a:lnTo>
                <a:lnTo>
                  <a:pt x="107" y="226"/>
                </a:lnTo>
                <a:lnTo>
                  <a:pt x="105" y="215"/>
                </a:lnTo>
                <a:lnTo>
                  <a:pt x="101" y="205"/>
                </a:lnTo>
                <a:lnTo>
                  <a:pt x="99" y="194"/>
                </a:lnTo>
                <a:lnTo>
                  <a:pt x="96" y="184"/>
                </a:lnTo>
                <a:lnTo>
                  <a:pt x="92" y="176"/>
                </a:lnTo>
                <a:lnTo>
                  <a:pt x="90" y="167"/>
                </a:lnTo>
                <a:lnTo>
                  <a:pt x="82" y="151"/>
                </a:lnTo>
                <a:lnTo>
                  <a:pt x="75" y="136"/>
                </a:lnTo>
                <a:lnTo>
                  <a:pt x="67" y="124"/>
                </a:lnTo>
                <a:lnTo>
                  <a:pt x="57" y="113"/>
                </a:lnTo>
                <a:lnTo>
                  <a:pt x="46" y="103"/>
                </a:lnTo>
                <a:lnTo>
                  <a:pt x="34" y="94"/>
                </a:lnTo>
                <a:lnTo>
                  <a:pt x="27" y="84"/>
                </a:lnTo>
                <a:lnTo>
                  <a:pt x="21" y="80"/>
                </a:lnTo>
                <a:lnTo>
                  <a:pt x="19" y="75"/>
                </a:lnTo>
                <a:lnTo>
                  <a:pt x="15" y="71"/>
                </a:lnTo>
                <a:lnTo>
                  <a:pt x="13" y="67"/>
                </a:lnTo>
                <a:lnTo>
                  <a:pt x="11" y="61"/>
                </a:lnTo>
                <a:lnTo>
                  <a:pt x="9" y="57"/>
                </a:lnTo>
                <a:lnTo>
                  <a:pt x="9" y="52"/>
                </a:lnTo>
                <a:lnTo>
                  <a:pt x="9" y="48"/>
                </a:lnTo>
                <a:lnTo>
                  <a:pt x="9" y="44"/>
                </a:lnTo>
                <a:lnTo>
                  <a:pt x="11" y="38"/>
                </a:lnTo>
                <a:lnTo>
                  <a:pt x="11" y="34"/>
                </a:lnTo>
                <a:lnTo>
                  <a:pt x="15" y="28"/>
                </a:lnTo>
                <a:lnTo>
                  <a:pt x="15" y="25"/>
                </a:lnTo>
                <a:lnTo>
                  <a:pt x="17" y="21"/>
                </a:lnTo>
                <a:lnTo>
                  <a:pt x="17" y="17"/>
                </a:lnTo>
                <a:lnTo>
                  <a:pt x="21" y="13"/>
                </a:lnTo>
                <a:lnTo>
                  <a:pt x="25" y="9"/>
                </a:lnTo>
                <a:lnTo>
                  <a:pt x="28" y="7"/>
                </a:lnTo>
                <a:lnTo>
                  <a:pt x="32" y="5"/>
                </a:lnTo>
                <a:lnTo>
                  <a:pt x="38" y="4"/>
                </a:lnTo>
                <a:lnTo>
                  <a:pt x="44" y="2"/>
                </a:lnTo>
                <a:lnTo>
                  <a:pt x="52" y="0"/>
                </a:lnTo>
                <a:lnTo>
                  <a:pt x="59" y="0"/>
                </a:lnTo>
                <a:lnTo>
                  <a:pt x="67" y="0"/>
                </a:lnTo>
                <a:lnTo>
                  <a:pt x="76" y="0"/>
                </a:lnTo>
                <a:lnTo>
                  <a:pt x="86" y="2"/>
                </a:lnTo>
                <a:lnTo>
                  <a:pt x="96" y="2"/>
                </a:lnTo>
                <a:lnTo>
                  <a:pt x="107" y="5"/>
                </a:lnTo>
                <a:lnTo>
                  <a:pt x="126" y="9"/>
                </a:lnTo>
                <a:lnTo>
                  <a:pt x="146" y="17"/>
                </a:lnTo>
                <a:lnTo>
                  <a:pt x="165" y="23"/>
                </a:lnTo>
                <a:lnTo>
                  <a:pt x="186" y="32"/>
                </a:lnTo>
                <a:lnTo>
                  <a:pt x="205" y="42"/>
                </a:lnTo>
                <a:lnTo>
                  <a:pt x="226" y="53"/>
                </a:lnTo>
                <a:lnTo>
                  <a:pt x="245" y="65"/>
                </a:lnTo>
                <a:lnTo>
                  <a:pt x="263" y="78"/>
                </a:lnTo>
                <a:lnTo>
                  <a:pt x="280" y="92"/>
                </a:lnTo>
                <a:lnTo>
                  <a:pt x="288" y="98"/>
                </a:lnTo>
                <a:lnTo>
                  <a:pt x="295" y="103"/>
                </a:lnTo>
                <a:lnTo>
                  <a:pt x="301" y="109"/>
                </a:lnTo>
                <a:lnTo>
                  <a:pt x="307" y="115"/>
                </a:lnTo>
                <a:lnTo>
                  <a:pt x="313" y="121"/>
                </a:lnTo>
                <a:lnTo>
                  <a:pt x="316" y="126"/>
                </a:lnTo>
                <a:lnTo>
                  <a:pt x="320" y="132"/>
                </a:lnTo>
                <a:lnTo>
                  <a:pt x="324" y="136"/>
                </a:lnTo>
                <a:lnTo>
                  <a:pt x="326" y="142"/>
                </a:lnTo>
                <a:lnTo>
                  <a:pt x="328" y="146"/>
                </a:lnTo>
                <a:lnTo>
                  <a:pt x="330" y="151"/>
                </a:lnTo>
                <a:lnTo>
                  <a:pt x="328" y="155"/>
                </a:lnTo>
                <a:lnTo>
                  <a:pt x="328" y="161"/>
                </a:lnTo>
                <a:lnTo>
                  <a:pt x="326" y="165"/>
                </a:lnTo>
                <a:lnTo>
                  <a:pt x="322" y="172"/>
                </a:lnTo>
                <a:lnTo>
                  <a:pt x="320" y="180"/>
                </a:lnTo>
                <a:lnTo>
                  <a:pt x="318" y="188"/>
                </a:lnTo>
                <a:lnTo>
                  <a:pt x="316" y="197"/>
                </a:lnTo>
                <a:lnTo>
                  <a:pt x="314" y="207"/>
                </a:lnTo>
                <a:lnTo>
                  <a:pt x="313" y="217"/>
                </a:lnTo>
                <a:lnTo>
                  <a:pt x="311" y="228"/>
                </a:lnTo>
                <a:lnTo>
                  <a:pt x="309" y="240"/>
                </a:lnTo>
                <a:lnTo>
                  <a:pt x="309" y="253"/>
                </a:lnTo>
                <a:lnTo>
                  <a:pt x="307" y="267"/>
                </a:lnTo>
                <a:lnTo>
                  <a:pt x="305" y="280"/>
                </a:lnTo>
                <a:lnTo>
                  <a:pt x="303" y="295"/>
                </a:lnTo>
                <a:lnTo>
                  <a:pt x="301" y="311"/>
                </a:lnTo>
                <a:lnTo>
                  <a:pt x="299" y="328"/>
                </a:lnTo>
                <a:lnTo>
                  <a:pt x="297" y="345"/>
                </a:lnTo>
                <a:lnTo>
                  <a:pt x="293" y="362"/>
                </a:lnTo>
                <a:lnTo>
                  <a:pt x="291" y="384"/>
                </a:lnTo>
                <a:lnTo>
                  <a:pt x="290" y="401"/>
                </a:lnTo>
                <a:lnTo>
                  <a:pt x="288" y="420"/>
                </a:lnTo>
                <a:lnTo>
                  <a:pt x="286" y="437"/>
                </a:lnTo>
                <a:lnTo>
                  <a:pt x="284" y="453"/>
                </a:lnTo>
                <a:lnTo>
                  <a:pt x="284" y="466"/>
                </a:lnTo>
                <a:lnTo>
                  <a:pt x="284" y="480"/>
                </a:lnTo>
                <a:lnTo>
                  <a:pt x="284" y="491"/>
                </a:lnTo>
                <a:lnTo>
                  <a:pt x="286" y="503"/>
                </a:lnTo>
                <a:lnTo>
                  <a:pt x="288" y="512"/>
                </a:lnTo>
                <a:lnTo>
                  <a:pt x="290" y="522"/>
                </a:lnTo>
                <a:lnTo>
                  <a:pt x="291" y="529"/>
                </a:lnTo>
                <a:lnTo>
                  <a:pt x="295" y="535"/>
                </a:lnTo>
                <a:lnTo>
                  <a:pt x="299" y="541"/>
                </a:lnTo>
                <a:lnTo>
                  <a:pt x="305" y="545"/>
                </a:lnTo>
                <a:lnTo>
                  <a:pt x="311" y="549"/>
                </a:lnTo>
                <a:lnTo>
                  <a:pt x="314" y="549"/>
                </a:lnTo>
                <a:lnTo>
                  <a:pt x="320" y="549"/>
                </a:lnTo>
                <a:lnTo>
                  <a:pt x="332" y="551"/>
                </a:lnTo>
                <a:lnTo>
                  <a:pt x="343" y="549"/>
                </a:lnTo>
                <a:lnTo>
                  <a:pt x="359" y="549"/>
                </a:lnTo>
                <a:lnTo>
                  <a:pt x="378" y="549"/>
                </a:lnTo>
                <a:lnTo>
                  <a:pt x="399" y="547"/>
                </a:lnTo>
                <a:lnTo>
                  <a:pt x="422" y="545"/>
                </a:lnTo>
                <a:lnTo>
                  <a:pt x="449" y="543"/>
                </a:lnTo>
                <a:lnTo>
                  <a:pt x="480" y="541"/>
                </a:lnTo>
                <a:lnTo>
                  <a:pt x="512" y="539"/>
                </a:lnTo>
                <a:lnTo>
                  <a:pt x="547" y="535"/>
                </a:lnTo>
                <a:lnTo>
                  <a:pt x="585" y="531"/>
                </a:lnTo>
                <a:lnTo>
                  <a:pt x="625" y="528"/>
                </a:lnTo>
                <a:lnTo>
                  <a:pt x="670" y="524"/>
                </a:lnTo>
                <a:lnTo>
                  <a:pt x="716" y="520"/>
                </a:lnTo>
                <a:lnTo>
                  <a:pt x="764" y="514"/>
                </a:lnTo>
                <a:lnTo>
                  <a:pt x="815" y="508"/>
                </a:lnTo>
                <a:lnTo>
                  <a:pt x="871" y="503"/>
                </a:lnTo>
                <a:lnTo>
                  <a:pt x="929" y="497"/>
                </a:lnTo>
                <a:lnTo>
                  <a:pt x="988" y="489"/>
                </a:lnTo>
                <a:lnTo>
                  <a:pt x="1052" y="483"/>
                </a:lnTo>
                <a:lnTo>
                  <a:pt x="1117" y="476"/>
                </a:lnTo>
                <a:lnTo>
                  <a:pt x="1186" y="468"/>
                </a:lnTo>
                <a:lnTo>
                  <a:pt x="1257" y="458"/>
                </a:lnTo>
                <a:lnTo>
                  <a:pt x="1330" y="449"/>
                </a:lnTo>
                <a:lnTo>
                  <a:pt x="1407" y="441"/>
                </a:lnTo>
                <a:lnTo>
                  <a:pt x="1487" y="432"/>
                </a:lnTo>
                <a:lnTo>
                  <a:pt x="1570" y="420"/>
                </a:lnTo>
                <a:lnTo>
                  <a:pt x="1654" y="410"/>
                </a:lnTo>
                <a:lnTo>
                  <a:pt x="1741" y="399"/>
                </a:lnTo>
                <a:lnTo>
                  <a:pt x="1833" y="38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1"/>
          <p:cNvSpPr/>
          <p:nvPr/>
        </p:nvSpPr>
        <p:spPr>
          <a:xfrm>
            <a:off x="5969160" y="3772080"/>
            <a:ext cx="841320" cy="452160"/>
          </a:xfrm>
          <a:custGeom>
            <a:avLst/>
            <a:gdLst/>
            <a:ahLst/>
            <a:rect l="l" t="t" r="r" b="b"/>
            <a:pathLst>
              <a:path w="1060" h="570">
                <a:moveTo>
                  <a:pt x="1056" y="542"/>
                </a:moveTo>
                <a:lnTo>
                  <a:pt x="1052" y="547"/>
                </a:lnTo>
                <a:lnTo>
                  <a:pt x="1050" y="553"/>
                </a:lnTo>
                <a:lnTo>
                  <a:pt x="1046" y="557"/>
                </a:lnTo>
                <a:lnTo>
                  <a:pt x="1042" y="563"/>
                </a:lnTo>
                <a:lnTo>
                  <a:pt x="1040" y="565"/>
                </a:lnTo>
                <a:lnTo>
                  <a:pt x="1037" y="569"/>
                </a:lnTo>
                <a:lnTo>
                  <a:pt x="1033" y="569"/>
                </a:lnTo>
                <a:lnTo>
                  <a:pt x="1029" y="570"/>
                </a:lnTo>
                <a:lnTo>
                  <a:pt x="1023" y="570"/>
                </a:lnTo>
                <a:lnTo>
                  <a:pt x="1019" y="570"/>
                </a:lnTo>
                <a:lnTo>
                  <a:pt x="1014" y="569"/>
                </a:lnTo>
                <a:lnTo>
                  <a:pt x="1008" y="567"/>
                </a:lnTo>
                <a:lnTo>
                  <a:pt x="1000" y="565"/>
                </a:lnTo>
                <a:lnTo>
                  <a:pt x="994" y="561"/>
                </a:lnTo>
                <a:lnTo>
                  <a:pt x="987" y="557"/>
                </a:lnTo>
                <a:lnTo>
                  <a:pt x="977" y="553"/>
                </a:lnTo>
                <a:lnTo>
                  <a:pt x="973" y="551"/>
                </a:lnTo>
                <a:lnTo>
                  <a:pt x="967" y="549"/>
                </a:lnTo>
                <a:lnTo>
                  <a:pt x="962" y="547"/>
                </a:lnTo>
                <a:lnTo>
                  <a:pt x="954" y="545"/>
                </a:lnTo>
                <a:lnTo>
                  <a:pt x="946" y="542"/>
                </a:lnTo>
                <a:lnTo>
                  <a:pt x="939" y="538"/>
                </a:lnTo>
                <a:lnTo>
                  <a:pt x="929" y="534"/>
                </a:lnTo>
                <a:lnTo>
                  <a:pt x="919" y="528"/>
                </a:lnTo>
                <a:lnTo>
                  <a:pt x="908" y="522"/>
                </a:lnTo>
                <a:lnTo>
                  <a:pt x="896" y="517"/>
                </a:lnTo>
                <a:lnTo>
                  <a:pt x="885" y="511"/>
                </a:lnTo>
                <a:lnTo>
                  <a:pt x="872" y="505"/>
                </a:lnTo>
                <a:lnTo>
                  <a:pt x="858" y="497"/>
                </a:lnTo>
                <a:lnTo>
                  <a:pt x="845" y="490"/>
                </a:lnTo>
                <a:lnTo>
                  <a:pt x="829" y="482"/>
                </a:lnTo>
                <a:lnTo>
                  <a:pt x="814" y="474"/>
                </a:lnTo>
                <a:lnTo>
                  <a:pt x="799" y="465"/>
                </a:lnTo>
                <a:lnTo>
                  <a:pt x="781" y="455"/>
                </a:lnTo>
                <a:lnTo>
                  <a:pt x="762" y="446"/>
                </a:lnTo>
                <a:lnTo>
                  <a:pt x="745" y="436"/>
                </a:lnTo>
                <a:lnTo>
                  <a:pt x="726" y="425"/>
                </a:lnTo>
                <a:lnTo>
                  <a:pt x="705" y="415"/>
                </a:lnTo>
                <a:lnTo>
                  <a:pt x="683" y="403"/>
                </a:lnTo>
                <a:lnTo>
                  <a:pt x="662" y="392"/>
                </a:lnTo>
                <a:lnTo>
                  <a:pt x="641" y="378"/>
                </a:lnTo>
                <a:lnTo>
                  <a:pt x="618" y="367"/>
                </a:lnTo>
                <a:lnTo>
                  <a:pt x="593" y="354"/>
                </a:lnTo>
                <a:lnTo>
                  <a:pt x="570" y="340"/>
                </a:lnTo>
                <a:lnTo>
                  <a:pt x="545" y="325"/>
                </a:lnTo>
                <a:lnTo>
                  <a:pt x="518" y="311"/>
                </a:lnTo>
                <a:lnTo>
                  <a:pt x="491" y="296"/>
                </a:lnTo>
                <a:lnTo>
                  <a:pt x="465" y="283"/>
                </a:lnTo>
                <a:lnTo>
                  <a:pt x="436" y="267"/>
                </a:lnTo>
                <a:lnTo>
                  <a:pt x="409" y="252"/>
                </a:lnTo>
                <a:lnTo>
                  <a:pt x="382" y="238"/>
                </a:lnTo>
                <a:lnTo>
                  <a:pt x="357" y="223"/>
                </a:lnTo>
                <a:lnTo>
                  <a:pt x="332" y="210"/>
                </a:lnTo>
                <a:lnTo>
                  <a:pt x="307" y="196"/>
                </a:lnTo>
                <a:lnTo>
                  <a:pt x="284" y="185"/>
                </a:lnTo>
                <a:lnTo>
                  <a:pt x="261" y="171"/>
                </a:lnTo>
                <a:lnTo>
                  <a:pt x="240" y="160"/>
                </a:lnTo>
                <a:lnTo>
                  <a:pt x="221" y="148"/>
                </a:lnTo>
                <a:lnTo>
                  <a:pt x="200" y="139"/>
                </a:lnTo>
                <a:lnTo>
                  <a:pt x="182" y="127"/>
                </a:lnTo>
                <a:lnTo>
                  <a:pt x="163" y="117"/>
                </a:lnTo>
                <a:lnTo>
                  <a:pt x="148" y="108"/>
                </a:lnTo>
                <a:lnTo>
                  <a:pt x="131" y="98"/>
                </a:lnTo>
                <a:lnTo>
                  <a:pt x="115" y="89"/>
                </a:lnTo>
                <a:lnTo>
                  <a:pt x="102" y="81"/>
                </a:lnTo>
                <a:lnTo>
                  <a:pt x="88" y="73"/>
                </a:lnTo>
                <a:lnTo>
                  <a:pt x="77" y="66"/>
                </a:lnTo>
                <a:lnTo>
                  <a:pt x="65" y="58"/>
                </a:lnTo>
                <a:lnTo>
                  <a:pt x="54" y="52"/>
                </a:lnTo>
                <a:lnTo>
                  <a:pt x="44" y="46"/>
                </a:lnTo>
                <a:lnTo>
                  <a:pt x="37" y="41"/>
                </a:lnTo>
                <a:lnTo>
                  <a:pt x="29" y="35"/>
                </a:lnTo>
                <a:lnTo>
                  <a:pt x="21" y="29"/>
                </a:lnTo>
                <a:lnTo>
                  <a:pt x="15" y="25"/>
                </a:lnTo>
                <a:lnTo>
                  <a:pt x="10" y="21"/>
                </a:lnTo>
                <a:lnTo>
                  <a:pt x="6" y="18"/>
                </a:lnTo>
                <a:lnTo>
                  <a:pt x="4" y="16"/>
                </a:lnTo>
                <a:lnTo>
                  <a:pt x="0" y="14"/>
                </a:lnTo>
                <a:lnTo>
                  <a:pt x="0" y="12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2" y="4"/>
                </a:lnTo>
                <a:lnTo>
                  <a:pt x="6" y="2"/>
                </a:lnTo>
                <a:lnTo>
                  <a:pt x="8" y="2"/>
                </a:lnTo>
                <a:lnTo>
                  <a:pt x="14" y="0"/>
                </a:lnTo>
                <a:lnTo>
                  <a:pt x="17" y="0"/>
                </a:lnTo>
                <a:lnTo>
                  <a:pt x="25" y="0"/>
                </a:lnTo>
                <a:lnTo>
                  <a:pt x="31" y="0"/>
                </a:lnTo>
                <a:lnTo>
                  <a:pt x="38" y="0"/>
                </a:lnTo>
                <a:lnTo>
                  <a:pt x="48" y="2"/>
                </a:lnTo>
                <a:lnTo>
                  <a:pt x="58" y="2"/>
                </a:lnTo>
                <a:lnTo>
                  <a:pt x="69" y="4"/>
                </a:lnTo>
                <a:lnTo>
                  <a:pt x="81" y="6"/>
                </a:lnTo>
                <a:lnTo>
                  <a:pt x="94" y="8"/>
                </a:lnTo>
                <a:lnTo>
                  <a:pt x="108" y="10"/>
                </a:lnTo>
                <a:lnTo>
                  <a:pt x="113" y="12"/>
                </a:lnTo>
                <a:lnTo>
                  <a:pt x="121" y="12"/>
                </a:lnTo>
                <a:lnTo>
                  <a:pt x="127" y="14"/>
                </a:lnTo>
                <a:lnTo>
                  <a:pt x="134" y="16"/>
                </a:lnTo>
                <a:lnTo>
                  <a:pt x="144" y="18"/>
                </a:lnTo>
                <a:lnTo>
                  <a:pt x="152" y="21"/>
                </a:lnTo>
                <a:lnTo>
                  <a:pt x="161" y="23"/>
                </a:lnTo>
                <a:lnTo>
                  <a:pt x="171" y="25"/>
                </a:lnTo>
                <a:lnTo>
                  <a:pt x="182" y="29"/>
                </a:lnTo>
                <a:lnTo>
                  <a:pt x="192" y="33"/>
                </a:lnTo>
                <a:lnTo>
                  <a:pt x="204" y="35"/>
                </a:lnTo>
                <a:lnTo>
                  <a:pt x="217" y="39"/>
                </a:lnTo>
                <a:lnTo>
                  <a:pt x="229" y="43"/>
                </a:lnTo>
                <a:lnTo>
                  <a:pt x="242" y="46"/>
                </a:lnTo>
                <a:lnTo>
                  <a:pt x="255" y="52"/>
                </a:lnTo>
                <a:lnTo>
                  <a:pt x="269" y="56"/>
                </a:lnTo>
                <a:lnTo>
                  <a:pt x="284" y="60"/>
                </a:lnTo>
                <a:lnTo>
                  <a:pt x="298" y="66"/>
                </a:lnTo>
                <a:lnTo>
                  <a:pt x="313" y="71"/>
                </a:lnTo>
                <a:lnTo>
                  <a:pt x="330" y="75"/>
                </a:lnTo>
                <a:lnTo>
                  <a:pt x="346" y="81"/>
                </a:lnTo>
                <a:lnTo>
                  <a:pt x="363" y="87"/>
                </a:lnTo>
                <a:lnTo>
                  <a:pt x="380" y="92"/>
                </a:lnTo>
                <a:lnTo>
                  <a:pt x="399" y="100"/>
                </a:lnTo>
                <a:lnTo>
                  <a:pt x="436" y="114"/>
                </a:lnTo>
                <a:lnTo>
                  <a:pt x="474" y="127"/>
                </a:lnTo>
                <a:lnTo>
                  <a:pt x="516" y="142"/>
                </a:lnTo>
                <a:lnTo>
                  <a:pt x="559" y="158"/>
                </a:lnTo>
                <a:lnTo>
                  <a:pt x="601" y="175"/>
                </a:lnTo>
                <a:lnTo>
                  <a:pt x="641" y="190"/>
                </a:lnTo>
                <a:lnTo>
                  <a:pt x="662" y="200"/>
                </a:lnTo>
                <a:lnTo>
                  <a:pt x="681" y="208"/>
                </a:lnTo>
                <a:lnTo>
                  <a:pt x="699" y="215"/>
                </a:lnTo>
                <a:lnTo>
                  <a:pt x="718" y="223"/>
                </a:lnTo>
                <a:lnTo>
                  <a:pt x="735" y="231"/>
                </a:lnTo>
                <a:lnTo>
                  <a:pt x="753" y="238"/>
                </a:lnTo>
                <a:lnTo>
                  <a:pt x="770" y="246"/>
                </a:lnTo>
                <a:lnTo>
                  <a:pt x="785" y="254"/>
                </a:lnTo>
                <a:lnTo>
                  <a:pt x="800" y="263"/>
                </a:lnTo>
                <a:lnTo>
                  <a:pt x="816" y="269"/>
                </a:lnTo>
                <a:lnTo>
                  <a:pt x="831" y="277"/>
                </a:lnTo>
                <a:lnTo>
                  <a:pt x="845" y="284"/>
                </a:lnTo>
                <a:lnTo>
                  <a:pt x="858" y="292"/>
                </a:lnTo>
                <a:lnTo>
                  <a:pt x="872" y="300"/>
                </a:lnTo>
                <a:lnTo>
                  <a:pt x="885" y="307"/>
                </a:lnTo>
                <a:lnTo>
                  <a:pt x="896" y="315"/>
                </a:lnTo>
                <a:lnTo>
                  <a:pt x="908" y="321"/>
                </a:lnTo>
                <a:lnTo>
                  <a:pt x="918" y="329"/>
                </a:lnTo>
                <a:lnTo>
                  <a:pt x="929" y="336"/>
                </a:lnTo>
                <a:lnTo>
                  <a:pt x="939" y="342"/>
                </a:lnTo>
                <a:lnTo>
                  <a:pt x="946" y="350"/>
                </a:lnTo>
                <a:lnTo>
                  <a:pt x="956" y="355"/>
                </a:lnTo>
                <a:lnTo>
                  <a:pt x="964" y="361"/>
                </a:lnTo>
                <a:lnTo>
                  <a:pt x="971" y="369"/>
                </a:lnTo>
                <a:lnTo>
                  <a:pt x="977" y="375"/>
                </a:lnTo>
                <a:lnTo>
                  <a:pt x="983" y="380"/>
                </a:lnTo>
                <a:lnTo>
                  <a:pt x="989" y="386"/>
                </a:lnTo>
                <a:lnTo>
                  <a:pt x="992" y="394"/>
                </a:lnTo>
                <a:lnTo>
                  <a:pt x="1010" y="415"/>
                </a:lnTo>
                <a:lnTo>
                  <a:pt x="1017" y="426"/>
                </a:lnTo>
                <a:lnTo>
                  <a:pt x="1025" y="436"/>
                </a:lnTo>
                <a:lnTo>
                  <a:pt x="1031" y="448"/>
                </a:lnTo>
                <a:lnTo>
                  <a:pt x="1037" y="457"/>
                </a:lnTo>
                <a:lnTo>
                  <a:pt x="1042" y="467"/>
                </a:lnTo>
                <a:lnTo>
                  <a:pt x="1048" y="476"/>
                </a:lnTo>
                <a:lnTo>
                  <a:pt x="1052" y="486"/>
                </a:lnTo>
                <a:lnTo>
                  <a:pt x="1054" y="494"/>
                </a:lnTo>
                <a:lnTo>
                  <a:pt x="1058" y="503"/>
                </a:lnTo>
                <a:lnTo>
                  <a:pt x="1058" y="511"/>
                </a:lnTo>
                <a:lnTo>
                  <a:pt x="1060" y="519"/>
                </a:lnTo>
                <a:lnTo>
                  <a:pt x="1060" y="526"/>
                </a:lnTo>
                <a:lnTo>
                  <a:pt x="1058" y="534"/>
                </a:lnTo>
                <a:lnTo>
                  <a:pt x="1056" y="54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2"/>
          <p:cNvSpPr/>
          <p:nvPr/>
        </p:nvSpPr>
        <p:spPr>
          <a:xfrm>
            <a:off x="5916600" y="3570120"/>
            <a:ext cx="853920" cy="730440"/>
          </a:xfrm>
          <a:custGeom>
            <a:avLst/>
            <a:gdLst/>
            <a:ahLst/>
            <a:rect l="l" t="t" r="r" b="b"/>
            <a:pathLst>
              <a:path w="1075" h="919">
                <a:moveTo>
                  <a:pt x="825" y="449"/>
                </a:moveTo>
                <a:lnTo>
                  <a:pt x="796" y="478"/>
                </a:lnTo>
                <a:lnTo>
                  <a:pt x="766" y="507"/>
                </a:lnTo>
                <a:lnTo>
                  <a:pt x="737" y="534"/>
                </a:lnTo>
                <a:lnTo>
                  <a:pt x="706" y="560"/>
                </a:lnTo>
                <a:lnTo>
                  <a:pt x="675" y="585"/>
                </a:lnTo>
                <a:lnTo>
                  <a:pt x="645" y="610"/>
                </a:lnTo>
                <a:lnTo>
                  <a:pt x="612" y="633"/>
                </a:lnTo>
                <a:lnTo>
                  <a:pt x="581" y="655"/>
                </a:lnTo>
                <a:lnTo>
                  <a:pt x="549" y="676"/>
                </a:lnTo>
                <a:lnTo>
                  <a:pt x="516" y="697"/>
                </a:lnTo>
                <a:lnTo>
                  <a:pt x="482" y="718"/>
                </a:lnTo>
                <a:lnTo>
                  <a:pt x="449" y="735"/>
                </a:lnTo>
                <a:lnTo>
                  <a:pt x="414" y="754"/>
                </a:lnTo>
                <a:lnTo>
                  <a:pt x="382" y="772"/>
                </a:lnTo>
                <a:lnTo>
                  <a:pt x="347" y="789"/>
                </a:lnTo>
                <a:lnTo>
                  <a:pt x="313" y="806"/>
                </a:lnTo>
                <a:lnTo>
                  <a:pt x="294" y="814"/>
                </a:lnTo>
                <a:lnTo>
                  <a:pt x="276" y="822"/>
                </a:lnTo>
                <a:lnTo>
                  <a:pt x="259" y="829"/>
                </a:lnTo>
                <a:lnTo>
                  <a:pt x="242" y="837"/>
                </a:lnTo>
                <a:lnTo>
                  <a:pt x="226" y="843"/>
                </a:lnTo>
                <a:lnTo>
                  <a:pt x="211" y="850"/>
                </a:lnTo>
                <a:lnTo>
                  <a:pt x="196" y="856"/>
                </a:lnTo>
                <a:lnTo>
                  <a:pt x="180" y="862"/>
                </a:lnTo>
                <a:lnTo>
                  <a:pt x="167" y="868"/>
                </a:lnTo>
                <a:lnTo>
                  <a:pt x="153" y="873"/>
                </a:lnTo>
                <a:lnTo>
                  <a:pt x="142" y="879"/>
                </a:lnTo>
                <a:lnTo>
                  <a:pt x="130" y="883"/>
                </a:lnTo>
                <a:lnTo>
                  <a:pt x="119" y="889"/>
                </a:lnTo>
                <a:lnTo>
                  <a:pt x="107" y="893"/>
                </a:lnTo>
                <a:lnTo>
                  <a:pt x="98" y="896"/>
                </a:lnTo>
                <a:lnTo>
                  <a:pt x="88" y="900"/>
                </a:lnTo>
                <a:lnTo>
                  <a:pt x="79" y="902"/>
                </a:lnTo>
                <a:lnTo>
                  <a:pt x="69" y="906"/>
                </a:lnTo>
                <a:lnTo>
                  <a:pt x="61" y="908"/>
                </a:lnTo>
                <a:lnTo>
                  <a:pt x="54" y="912"/>
                </a:lnTo>
                <a:lnTo>
                  <a:pt x="46" y="914"/>
                </a:lnTo>
                <a:lnTo>
                  <a:pt x="40" y="916"/>
                </a:lnTo>
                <a:lnTo>
                  <a:pt x="34" y="916"/>
                </a:lnTo>
                <a:lnTo>
                  <a:pt x="29" y="917"/>
                </a:lnTo>
                <a:lnTo>
                  <a:pt x="23" y="919"/>
                </a:lnTo>
                <a:lnTo>
                  <a:pt x="19" y="919"/>
                </a:lnTo>
                <a:lnTo>
                  <a:pt x="15" y="919"/>
                </a:lnTo>
                <a:lnTo>
                  <a:pt x="11" y="919"/>
                </a:lnTo>
                <a:lnTo>
                  <a:pt x="8" y="919"/>
                </a:lnTo>
                <a:lnTo>
                  <a:pt x="6" y="919"/>
                </a:lnTo>
                <a:lnTo>
                  <a:pt x="2" y="917"/>
                </a:lnTo>
                <a:lnTo>
                  <a:pt x="0" y="916"/>
                </a:lnTo>
                <a:lnTo>
                  <a:pt x="0" y="914"/>
                </a:lnTo>
                <a:lnTo>
                  <a:pt x="0" y="910"/>
                </a:lnTo>
                <a:lnTo>
                  <a:pt x="2" y="908"/>
                </a:lnTo>
                <a:lnTo>
                  <a:pt x="4" y="906"/>
                </a:lnTo>
                <a:lnTo>
                  <a:pt x="6" y="902"/>
                </a:lnTo>
                <a:lnTo>
                  <a:pt x="8" y="900"/>
                </a:lnTo>
                <a:lnTo>
                  <a:pt x="11" y="896"/>
                </a:lnTo>
                <a:lnTo>
                  <a:pt x="15" y="893"/>
                </a:lnTo>
                <a:lnTo>
                  <a:pt x="19" y="889"/>
                </a:lnTo>
                <a:lnTo>
                  <a:pt x="23" y="883"/>
                </a:lnTo>
                <a:lnTo>
                  <a:pt x="29" y="879"/>
                </a:lnTo>
                <a:lnTo>
                  <a:pt x="34" y="873"/>
                </a:lnTo>
                <a:lnTo>
                  <a:pt x="40" y="869"/>
                </a:lnTo>
                <a:lnTo>
                  <a:pt x="46" y="864"/>
                </a:lnTo>
                <a:lnTo>
                  <a:pt x="54" y="858"/>
                </a:lnTo>
                <a:lnTo>
                  <a:pt x="61" y="852"/>
                </a:lnTo>
                <a:lnTo>
                  <a:pt x="69" y="846"/>
                </a:lnTo>
                <a:lnTo>
                  <a:pt x="79" y="841"/>
                </a:lnTo>
                <a:lnTo>
                  <a:pt x="88" y="833"/>
                </a:lnTo>
                <a:lnTo>
                  <a:pt x="98" y="827"/>
                </a:lnTo>
                <a:lnTo>
                  <a:pt x="117" y="812"/>
                </a:lnTo>
                <a:lnTo>
                  <a:pt x="140" y="797"/>
                </a:lnTo>
                <a:lnTo>
                  <a:pt x="165" y="779"/>
                </a:lnTo>
                <a:lnTo>
                  <a:pt x="192" y="762"/>
                </a:lnTo>
                <a:lnTo>
                  <a:pt x="219" y="745"/>
                </a:lnTo>
                <a:lnTo>
                  <a:pt x="246" y="727"/>
                </a:lnTo>
                <a:lnTo>
                  <a:pt x="270" y="710"/>
                </a:lnTo>
                <a:lnTo>
                  <a:pt x="320" y="676"/>
                </a:lnTo>
                <a:lnTo>
                  <a:pt x="370" y="637"/>
                </a:lnTo>
                <a:lnTo>
                  <a:pt x="418" y="599"/>
                </a:lnTo>
                <a:lnTo>
                  <a:pt x="464" y="560"/>
                </a:lnTo>
                <a:lnTo>
                  <a:pt x="508" y="518"/>
                </a:lnTo>
                <a:lnTo>
                  <a:pt x="551" y="478"/>
                </a:lnTo>
                <a:lnTo>
                  <a:pt x="593" y="436"/>
                </a:lnTo>
                <a:lnTo>
                  <a:pt x="608" y="415"/>
                </a:lnTo>
                <a:lnTo>
                  <a:pt x="626" y="395"/>
                </a:lnTo>
                <a:lnTo>
                  <a:pt x="641" y="376"/>
                </a:lnTo>
                <a:lnTo>
                  <a:pt x="656" y="359"/>
                </a:lnTo>
                <a:lnTo>
                  <a:pt x="670" y="342"/>
                </a:lnTo>
                <a:lnTo>
                  <a:pt x="683" y="324"/>
                </a:lnTo>
                <a:lnTo>
                  <a:pt x="697" y="309"/>
                </a:lnTo>
                <a:lnTo>
                  <a:pt x="708" y="294"/>
                </a:lnTo>
                <a:lnTo>
                  <a:pt x="720" y="278"/>
                </a:lnTo>
                <a:lnTo>
                  <a:pt x="731" y="265"/>
                </a:lnTo>
                <a:lnTo>
                  <a:pt x="741" y="251"/>
                </a:lnTo>
                <a:lnTo>
                  <a:pt x="750" y="238"/>
                </a:lnTo>
                <a:lnTo>
                  <a:pt x="758" y="225"/>
                </a:lnTo>
                <a:lnTo>
                  <a:pt x="766" y="213"/>
                </a:lnTo>
                <a:lnTo>
                  <a:pt x="773" y="202"/>
                </a:lnTo>
                <a:lnTo>
                  <a:pt x="779" y="190"/>
                </a:lnTo>
                <a:lnTo>
                  <a:pt x="785" y="178"/>
                </a:lnTo>
                <a:lnTo>
                  <a:pt x="789" y="167"/>
                </a:lnTo>
                <a:lnTo>
                  <a:pt x="793" y="157"/>
                </a:lnTo>
                <a:lnTo>
                  <a:pt x="796" y="148"/>
                </a:lnTo>
                <a:lnTo>
                  <a:pt x="798" y="138"/>
                </a:lnTo>
                <a:lnTo>
                  <a:pt x="800" y="129"/>
                </a:lnTo>
                <a:lnTo>
                  <a:pt x="802" y="121"/>
                </a:lnTo>
                <a:lnTo>
                  <a:pt x="804" y="113"/>
                </a:lnTo>
                <a:lnTo>
                  <a:pt x="804" y="106"/>
                </a:lnTo>
                <a:lnTo>
                  <a:pt x="804" y="100"/>
                </a:lnTo>
                <a:lnTo>
                  <a:pt x="804" y="92"/>
                </a:lnTo>
                <a:lnTo>
                  <a:pt x="802" y="86"/>
                </a:lnTo>
                <a:lnTo>
                  <a:pt x="798" y="75"/>
                </a:lnTo>
                <a:lnTo>
                  <a:pt x="794" y="65"/>
                </a:lnTo>
                <a:lnTo>
                  <a:pt x="789" y="56"/>
                </a:lnTo>
                <a:lnTo>
                  <a:pt x="785" y="48"/>
                </a:lnTo>
                <a:lnTo>
                  <a:pt x="785" y="42"/>
                </a:lnTo>
                <a:lnTo>
                  <a:pt x="785" y="38"/>
                </a:lnTo>
                <a:lnTo>
                  <a:pt x="785" y="35"/>
                </a:lnTo>
                <a:lnTo>
                  <a:pt x="785" y="31"/>
                </a:lnTo>
                <a:lnTo>
                  <a:pt x="785" y="27"/>
                </a:lnTo>
                <a:lnTo>
                  <a:pt x="787" y="23"/>
                </a:lnTo>
                <a:lnTo>
                  <a:pt x="789" y="19"/>
                </a:lnTo>
                <a:lnTo>
                  <a:pt x="793" y="15"/>
                </a:lnTo>
                <a:lnTo>
                  <a:pt x="794" y="11"/>
                </a:lnTo>
                <a:lnTo>
                  <a:pt x="800" y="10"/>
                </a:lnTo>
                <a:lnTo>
                  <a:pt x="804" y="6"/>
                </a:lnTo>
                <a:lnTo>
                  <a:pt x="810" y="4"/>
                </a:lnTo>
                <a:lnTo>
                  <a:pt x="812" y="2"/>
                </a:lnTo>
                <a:lnTo>
                  <a:pt x="818" y="0"/>
                </a:lnTo>
                <a:lnTo>
                  <a:pt x="821" y="0"/>
                </a:lnTo>
                <a:lnTo>
                  <a:pt x="827" y="0"/>
                </a:lnTo>
                <a:lnTo>
                  <a:pt x="833" y="0"/>
                </a:lnTo>
                <a:lnTo>
                  <a:pt x="841" y="0"/>
                </a:lnTo>
                <a:lnTo>
                  <a:pt x="848" y="2"/>
                </a:lnTo>
                <a:lnTo>
                  <a:pt x="856" y="4"/>
                </a:lnTo>
                <a:lnTo>
                  <a:pt x="865" y="6"/>
                </a:lnTo>
                <a:lnTo>
                  <a:pt x="875" y="10"/>
                </a:lnTo>
                <a:lnTo>
                  <a:pt x="887" y="13"/>
                </a:lnTo>
                <a:lnTo>
                  <a:pt x="896" y="17"/>
                </a:lnTo>
                <a:lnTo>
                  <a:pt x="910" y="23"/>
                </a:lnTo>
                <a:lnTo>
                  <a:pt x="921" y="29"/>
                </a:lnTo>
                <a:lnTo>
                  <a:pt x="935" y="35"/>
                </a:lnTo>
                <a:lnTo>
                  <a:pt x="950" y="40"/>
                </a:lnTo>
                <a:lnTo>
                  <a:pt x="963" y="48"/>
                </a:lnTo>
                <a:lnTo>
                  <a:pt x="977" y="54"/>
                </a:lnTo>
                <a:lnTo>
                  <a:pt x="988" y="61"/>
                </a:lnTo>
                <a:lnTo>
                  <a:pt x="1000" y="67"/>
                </a:lnTo>
                <a:lnTo>
                  <a:pt x="1009" y="73"/>
                </a:lnTo>
                <a:lnTo>
                  <a:pt x="1019" y="79"/>
                </a:lnTo>
                <a:lnTo>
                  <a:pt x="1027" y="84"/>
                </a:lnTo>
                <a:lnTo>
                  <a:pt x="1034" y="90"/>
                </a:lnTo>
                <a:lnTo>
                  <a:pt x="1042" y="96"/>
                </a:lnTo>
                <a:lnTo>
                  <a:pt x="1048" y="102"/>
                </a:lnTo>
                <a:lnTo>
                  <a:pt x="1054" y="107"/>
                </a:lnTo>
                <a:lnTo>
                  <a:pt x="1059" y="113"/>
                </a:lnTo>
                <a:lnTo>
                  <a:pt x="1063" y="119"/>
                </a:lnTo>
                <a:lnTo>
                  <a:pt x="1067" y="127"/>
                </a:lnTo>
                <a:lnTo>
                  <a:pt x="1075" y="140"/>
                </a:lnTo>
                <a:lnTo>
                  <a:pt x="1073" y="148"/>
                </a:lnTo>
                <a:lnTo>
                  <a:pt x="1071" y="157"/>
                </a:lnTo>
                <a:lnTo>
                  <a:pt x="1065" y="169"/>
                </a:lnTo>
                <a:lnTo>
                  <a:pt x="1063" y="175"/>
                </a:lnTo>
                <a:lnTo>
                  <a:pt x="1059" y="180"/>
                </a:lnTo>
                <a:lnTo>
                  <a:pt x="1056" y="188"/>
                </a:lnTo>
                <a:lnTo>
                  <a:pt x="1050" y="196"/>
                </a:lnTo>
                <a:lnTo>
                  <a:pt x="1046" y="203"/>
                </a:lnTo>
                <a:lnTo>
                  <a:pt x="1040" y="211"/>
                </a:lnTo>
                <a:lnTo>
                  <a:pt x="1034" y="219"/>
                </a:lnTo>
                <a:lnTo>
                  <a:pt x="1027" y="228"/>
                </a:lnTo>
                <a:lnTo>
                  <a:pt x="1021" y="238"/>
                </a:lnTo>
                <a:lnTo>
                  <a:pt x="1013" y="248"/>
                </a:lnTo>
                <a:lnTo>
                  <a:pt x="1006" y="257"/>
                </a:lnTo>
                <a:lnTo>
                  <a:pt x="996" y="267"/>
                </a:lnTo>
                <a:lnTo>
                  <a:pt x="988" y="278"/>
                </a:lnTo>
                <a:lnTo>
                  <a:pt x="979" y="290"/>
                </a:lnTo>
                <a:lnTo>
                  <a:pt x="967" y="301"/>
                </a:lnTo>
                <a:lnTo>
                  <a:pt x="958" y="313"/>
                </a:lnTo>
                <a:lnTo>
                  <a:pt x="946" y="324"/>
                </a:lnTo>
                <a:lnTo>
                  <a:pt x="935" y="336"/>
                </a:lnTo>
                <a:lnTo>
                  <a:pt x="923" y="349"/>
                </a:lnTo>
                <a:lnTo>
                  <a:pt x="912" y="363"/>
                </a:lnTo>
                <a:lnTo>
                  <a:pt x="898" y="376"/>
                </a:lnTo>
                <a:lnTo>
                  <a:pt x="885" y="390"/>
                </a:lnTo>
                <a:lnTo>
                  <a:pt x="871" y="403"/>
                </a:lnTo>
                <a:lnTo>
                  <a:pt x="856" y="418"/>
                </a:lnTo>
                <a:lnTo>
                  <a:pt x="841" y="434"/>
                </a:lnTo>
                <a:lnTo>
                  <a:pt x="825" y="4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63"/>
          <p:cNvSpPr/>
          <p:nvPr/>
        </p:nvSpPr>
        <p:spPr>
          <a:xfrm>
            <a:off x="6264360" y="3219480"/>
            <a:ext cx="1616040" cy="1882800"/>
          </a:xfrm>
          <a:custGeom>
            <a:avLst/>
            <a:gdLst/>
            <a:ahLst/>
            <a:rect l="l" t="t" r="r" b="b"/>
            <a:pathLst>
              <a:path w="2035" h="2371">
                <a:moveTo>
                  <a:pt x="1864" y="1434"/>
                </a:moveTo>
                <a:lnTo>
                  <a:pt x="1860" y="1463"/>
                </a:lnTo>
                <a:lnTo>
                  <a:pt x="1857" y="1494"/>
                </a:lnTo>
                <a:lnTo>
                  <a:pt x="1853" y="1525"/>
                </a:lnTo>
                <a:lnTo>
                  <a:pt x="1847" y="1553"/>
                </a:lnTo>
                <a:lnTo>
                  <a:pt x="1841" y="1584"/>
                </a:lnTo>
                <a:lnTo>
                  <a:pt x="1834" y="1615"/>
                </a:lnTo>
                <a:lnTo>
                  <a:pt x="1826" y="1644"/>
                </a:lnTo>
                <a:lnTo>
                  <a:pt x="1818" y="1674"/>
                </a:lnTo>
                <a:lnTo>
                  <a:pt x="1810" y="1705"/>
                </a:lnTo>
                <a:lnTo>
                  <a:pt x="1801" y="1734"/>
                </a:lnTo>
                <a:lnTo>
                  <a:pt x="1782" y="1795"/>
                </a:lnTo>
                <a:lnTo>
                  <a:pt x="1762" y="1855"/>
                </a:lnTo>
                <a:lnTo>
                  <a:pt x="1739" y="1916"/>
                </a:lnTo>
                <a:lnTo>
                  <a:pt x="1728" y="1945"/>
                </a:lnTo>
                <a:lnTo>
                  <a:pt x="1716" y="1974"/>
                </a:lnTo>
                <a:lnTo>
                  <a:pt x="1705" y="2001"/>
                </a:lnTo>
                <a:lnTo>
                  <a:pt x="1693" y="2029"/>
                </a:lnTo>
                <a:lnTo>
                  <a:pt x="1682" y="2054"/>
                </a:lnTo>
                <a:lnTo>
                  <a:pt x="1670" y="2079"/>
                </a:lnTo>
                <a:lnTo>
                  <a:pt x="1659" y="2104"/>
                </a:lnTo>
                <a:lnTo>
                  <a:pt x="1645" y="2127"/>
                </a:lnTo>
                <a:lnTo>
                  <a:pt x="1634" y="2148"/>
                </a:lnTo>
                <a:lnTo>
                  <a:pt x="1622" y="2170"/>
                </a:lnTo>
                <a:lnTo>
                  <a:pt x="1611" y="2189"/>
                </a:lnTo>
                <a:lnTo>
                  <a:pt x="1599" y="2208"/>
                </a:lnTo>
                <a:lnTo>
                  <a:pt x="1588" y="2227"/>
                </a:lnTo>
                <a:lnTo>
                  <a:pt x="1576" y="2242"/>
                </a:lnTo>
                <a:lnTo>
                  <a:pt x="1565" y="2258"/>
                </a:lnTo>
                <a:lnTo>
                  <a:pt x="1553" y="2273"/>
                </a:lnTo>
                <a:lnTo>
                  <a:pt x="1542" y="2285"/>
                </a:lnTo>
                <a:lnTo>
                  <a:pt x="1530" y="2296"/>
                </a:lnTo>
                <a:lnTo>
                  <a:pt x="1521" y="2306"/>
                </a:lnTo>
                <a:lnTo>
                  <a:pt x="1509" y="2315"/>
                </a:lnTo>
                <a:lnTo>
                  <a:pt x="1500" y="2323"/>
                </a:lnTo>
                <a:lnTo>
                  <a:pt x="1490" y="2333"/>
                </a:lnTo>
                <a:lnTo>
                  <a:pt x="1480" y="2338"/>
                </a:lnTo>
                <a:lnTo>
                  <a:pt x="1471" y="2346"/>
                </a:lnTo>
                <a:lnTo>
                  <a:pt x="1463" y="2352"/>
                </a:lnTo>
                <a:lnTo>
                  <a:pt x="1455" y="2358"/>
                </a:lnTo>
                <a:lnTo>
                  <a:pt x="1448" y="2361"/>
                </a:lnTo>
                <a:lnTo>
                  <a:pt x="1440" y="2365"/>
                </a:lnTo>
                <a:lnTo>
                  <a:pt x="1432" y="2367"/>
                </a:lnTo>
                <a:lnTo>
                  <a:pt x="1425" y="2369"/>
                </a:lnTo>
                <a:lnTo>
                  <a:pt x="1419" y="2371"/>
                </a:lnTo>
                <a:lnTo>
                  <a:pt x="1413" y="2371"/>
                </a:lnTo>
                <a:lnTo>
                  <a:pt x="1407" y="2371"/>
                </a:lnTo>
                <a:lnTo>
                  <a:pt x="1402" y="2371"/>
                </a:lnTo>
                <a:lnTo>
                  <a:pt x="1396" y="2369"/>
                </a:lnTo>
                <a:lnTo>
                  <a:pt x="1390" y="2367"/>
                </a:lnTo>
                <a:lnTo>
                  <a:pt x="1384" y="2365"/>
                </a:lnTo>
                <a:lnTo>
                  <a:pt x="1377" y="2361"/>
                </a:lnTo>
                <a:lnTo>
                  <a:pt x="1365" y="2356"/>
                </a:lnTo>
                <a:lnTo>
                  <a:pt x="1352" y="2346"/>
                </a:lnTo>
                <a:lnTo>
                  <a:pt x="1336" y="2335"/>
                </a:lnTo>
                <a:lnTo>
                  <a:pt x="1321" y="2323"/>
                </a:lnTo>
                <a:lnTo>
                  <a:pt x="1304" y="2310"/>
                </a:lnTo>
                <a:lnTo>
                  <a:pt x="1296" y="2300"/>
                </a:lnTo>
                <a:lnTo>
                  <a:pt x="1285" y="2290"/>
                </a:lnTo>
                <a:lnTo>
                  <a:pt x="1275" y="2281"/>
                </a:lnTo>
                <a:lnTo>
                  <a:pt x="1263" y="2271"/>
                </a:lnTo>
                <a:lnTo>
                  <a:pt x="1252" y="2260"/>
                </a:lnTo>
                <a:lnTo>
                  <a:pt x="1238" y="2248"/>
                </a:lnTo>
                <a:lnTo>
                  <a:pt x="1225" y="2237"/>
                </a:lnTo>
                <a:lnTo>
                  <a:pt x="1212" y="2223"/>
                </a:lnTo>
                <a:lnTo>
                  <a:pt x="1196" y="2212"/>
                </a:lnTo>
                <a:lnTo>
                  <a:pt x="1181" y="2198"/>
                </a:lnTo>
                <a:lnTo>
                  <a:pt x="1164" y="2183"/>
                </a:lnTo>
                <a:lnTo>
                  <a:pt x="1146" y="2168"/>
                </a:lnTo>
                <a:lnTo>
                  <a:pt x="1129" y="2152"/>
                </a:lnTo>
                <a:lnTo>
                  <a:pt x="1110" y="2135"/>
                </a:lnTo>
                <a:lnTo>
                  <a:pt x="1091" y="2118"/>
                </a:lnTo>
                <a:lnTo>
                  <a:pt x="1071" y="2100"/>
                </a:lnTo>
                <a:lnTo>
                  <a:pt x="1052" y="2083"/>
                </a:lnTo>
                <a:lnTo>
                  <a:pt x="1035" y="2070"/>
                </a:lnTo>
                <a:lnTo>
                  <a:pt x="1018" y="2054"/>
                </a:lnTo>
                <a:lnTo>
                  <a:pt x="1004" y="2041"/>
                </a:lnTo>
                <a:lnTo>
                  <a:pt x="991" y="2029"/>
                </a:lnTo>
                <a:lnTo>
                  <a:pt x="981" y="2018"/>
                </a:lnTo>
                <a:lnTo>
                  <a:pt x="972" y="2008"/>
                </a:lnTo>
                <a:lnTo>
                  <a:pt x="964" y="1999"/>
                </a:lnTo>
                <a:lnTo>
                  <a:pt x="956" y="1989"/>
                </a:lnTo>
                <a:lnTo>
                  <a:pt x="951" y="1981"/>
                </a:lnTo>
                <a:lnTo>
                  <a:pt x="947" y="1974"/>
                </a:lnTo>
                <a:lnTo>
                  <a:pt x="945" y="1968"/>
                </a:lnTo>
                <a:lnTo>
                  <a:pt x="943" y="1962"/>
                </a:lnTo>
                <a:lnTo>
                  <a:pt x="943" y="1958"/>
                </a:lnTo>
                <a:lnTo>
                  <a:pt x="945" y="1955"/>
                </a:lnTo>
                <a:lnTo>
                  <a:pt x="947" y="1953"/>
                </a:lnTo>
                <a:lnTo>
                  <a:pt x="951" y="1951"/>
                </a:lnTo>
                <a:lnTo>
                  <a:pt x="954" y="1949"/>
                </a:lnTo>
                <a:lnTo>
                  <a:pt x="960" y="1947"/>
                </a:lnTo>
                <a:lnTo>
                  <a:pt x="968" y="1947"/>
                </a:lnTo>
                <a:lnTo>
                  <a:pt x="976" y="1947"/>
                </a:lnTo>
                <a:lnTo>
                  <a:pt x="985" y="1949"/>
                </a:lnTo>
                <a:lnTo>
                  <a:pt x="995" y="1951"/>
                </a:lnTo>
                <a:lnTo>
                  <a:pt x="1008" y="1953"/>
                </a:lnTo>
                <a:lnTo>
                  <a:pt x="1020" y="1955"/>
                </a:lnTo>
                <a:lnTo>
                  <a:pt x="1035" y="1958"/>
                </a:lnTo>
                <a:lnTo>
                  <a:pt x="1050" y="1960"/>
                </a:lnTo>
                <a:lnTo>
                  <a:pt x="1068" y="1966"/>
                </a:lnTo>
                <a:lnTo>
                  <a:pt x="1085" y="1970"/>
                </a:lnTo>
                <a:lnTo>
                  <a:pt x="1106" y="1976"/>
                </a:lnTo>
                <a:lnTo>
                  <a:pt x="1127" y="1981"/>
                </a:lnTo>
                <a:lnTo>
                  <a:pt x="1150" y="1989"/>
                </a:lnTo>
                <a:lnTo>
                  <a:pt x="1169" y="1995"/>
                </a:lnTo>
                <a:lnTo>
                  <a:pt x="1189" y="2003"/>
                </a:lnTo>
                <a:lnTo>
                  <a:pt x="1208" y="2006"/>
                </a:lnTo>
                <a:lnTo>
                  <a:pt x="1225" y="2010"/>
                </a:lnTo>
                <a:lnTo>
                  <a:pt x="1242" y="2014"/>
                </a:lnTo>
                <a:lnTo>
                  <a:pt x="1258" y="2016"/>
                </a:lnTo>
                <a:lnTo>
                  <a:pt x="1275" y="2018"/>
                </a:lnTo>
                <a:lnTo>
                  <a:pt x="1288" y="2020"/>
                </a:lnTo>
                <a:lnTo>
                  <a:pt x="1304" y="2020"/>
                </a:lnTo>
                <a:lnTo>
                  <a:pt x="1317" y="2018"/>
                </a:lnTo>
                <a:lnTo>
                  <a:pt x="1329" y="2018"/>
                </a:lnTo>
                <a:lnTo>
                  <a:pt x="1342" y="2016"/>
                </a:lnTo>
                <a:lnTo>
                  <a:pt x="1354" y="2012"/>
                </a:lnTo>
                <a:lnTo>
                  <a:pt x="1363" y="2010"/>
                </a:lnTo>
                <a:lnTo>
                  <a:pt x="1373" y="2006"/>
                </a:lnTo>
                <a:lnTo>
                  <a:pt x="1382" y="2003"/>
                </a:lnTo>
                <a:lnTo>
                  <a:pt x="1390" y="1999"/>
                </a:lnTo>
                <a:lnTo>
                  <a:pt x="1400" y="1993"/>
                </a:lnTo>
                <a:lnTo>
                  <a:pt x="1409" y="1987"/>
                </a:lnTo>
                <a:lnTo>
                  <a:pt x="1417" y="1978"/>
                </a:lnTo>
                <a:lnTo>
                  <a:pt x="1427" y="1968"/>
                </a:lnTo>
                <a:lnTo>
                  <a:pt x="1436" y="1956"/>
                </a:lnTo>
                <a:lnTo>
                  <a:pt x="1446" y="1943"/>
                </a:lnTo>
                <a:lnTo>
                  <a:pt x="1453" y="1930"/>
                </a:lnTo>
                <a:lnTo>
                  <a:pt x="1463" y="1912"/>
                </a:lnTo>
                <a:lnTo>
                  <a:pt x="1475" y="1895"/>
                </a:lnTo>
                <a:lnTo>
                  <a:pt x="1484" y="1876"/>
                </a:lnTo>
                <a:lnTo>
                  <a:pt x="1494" y="1855"/>
                </a:lnTo>
                <a:lnTo>
                  <a:pt x="1505" y="1832"/>
                </a:lnTo>
                <a:lnTo>
                  <a:pt x="1515" y="1807"/>
                </a:lnTo>
                <a:lnTo>
                  <a:pt x="1526" y="1782"/>
                </a:lnTo>
                <a:lnTo>
                  <a:pt x="1538" y="1755"/>
                </a:lnTo>
                <a:lnTo>
                  <a:pt x="1542" y="1741"/>
                </a:lnTo>
                <a:lnTo>
                  <a:pt x="1546" y="1728"/>
                </a:lnTo>
                <a:lnTo>
                  <a:pt x="1549" y="1715"/>
                </a:lnTo>
                <a:lnTo>
                  <a:pt x="1555" y="1699"/>
                </a:lnTo>
                <a:lnTo>
                  <a:pt x="1559" y="1684"/>
                </a:lnTo>
                <a:lnTo>
                  <a:pt x="1563" y="1669"/>
                </a:lnTo>
                <a:lnTo>
                  <a:pt x="1567" y="1653"/>
                </a:lnTo>
                <a:lnTo>
                  <a:pt x="1572" y="1636"/>
                </a:lnTo>
                <a:lnTo>
                  <a:pt x="1576" y="1619"/>
                </a:lnTo>
                <a:lnTo>
                  <a:pt x="1580" y="1601"/>
                </a:lnTo>
                <a:lnTo>
                  <a:pt x="1584" y="1584"/>
                </a:lnTo>
                <a:lnTo>
                  <a:pt x="1590" y="1565"/>
                </a:lnTo>
                <a:lnTo>
                  <a:pt x="1597" y="1526"/>
                </a:lnTo>
                <a:lnTo>
                  <a:pt x="1605" y="1488"/>
                </a:lnTo>
                <a:lnTo>
                  <a:pt x="1613" y="1446"/>
                </a:lnTo>
                <a:lnTo>
                  <a:pt x="1620" y="1402"/>
                </a:lnTo>
                <a:lnTo>
                  <a:pt x="1628" y="1356"/>
                </a:lnTo>
                <a:lnTo>
                  <a:pt x="1636" y="1308"/>
                </a:lnTo>
                <a:lnTo>
                  <a:pt x="1643" y="1260"/>
                </a:lnTo>
                <a:lnTo>
                  <a:pt x="1649" y="1208"/>
                </a:lnTo>
                <a:lnTo>
                  <a:pt x="1655" y="1154"/>
                </a:lnTo>
                <a:lnTo>
                  <a:pt x="1663" y="1100"/>
                </a:lnTo>
                <a:lnTo>
                  <a:pt x="1663" y="1072"/>
                </a:lnTo>
                <a:lnTo>
                  <a:pt x="1665" y="1045"/>
                </a:lnTo>
                <a:lnTo>
                  <a:pt x="1667" y="1020"/>
                </a:lnTo>
                <a:lnTo>
                  <a:pt x="1668" y="993"/>
                </a:lnTo>
                <a:lnTo>
                  <a:pt x="1668" y="968"/>
                </a:lnTo>
                <a:lnTo>
                  <a:pt x="1670" y="943"/>
                </a:lnTo>
                <a:lnTo>
                  <a:pt x="1672" y="918"/>
                </a:lnTo>
                <a:lnTo>
                  <a:pt x="1672" y="893"/>
                </a:lnTo>
                <a:lnTo>
                  <a:pt x="1674" y="870"/>
                </a:lnTo>
                <a:lnTo>
                  <a:pt x="1676" y="847"/>
                </a:lnTo>
                <a:lnTo>
                  <a:pt x="1678" y="824"/>
                </a:lnTo>
                <a:lnTo>
                  <a:pt x="1678" y="803"/>
                </a:lnTo>
                <a:lnTo>
                  <a:pt x="1680" y="761"/>
                </a:lnTo>
                <a:lnTo>
                  <a:pt x="1684" y="718"/>
                </a:lnTo>
                <a:lnTo>
                  <a:pt x="1686" y="680"/>
                </a:lnTo>
                <a:lnTo>
                  <a:pt x="1688" y="644"/>
                </a:lnTo>
                <a:lnTo>
                  <a:pt x="1690" y="607"/>
                </a:lnTo>
                <a:lnTo>
                  <a:pt x="1690" y="574"/>
                </a:lnTo>
                <a:lnTo>
                  <a:pt x="1691" y="542"/>
                </a:lnTo>
                <a:lnTo>
                  <a:pt x="1691" y="513"/>
                </a:lnTo>
                <a:lnTo>
                  <a:pt x="1693" y="484"/>
                </a:lnTo>
                <a:lnTo>
                  <a:pt x="1693" y="457"/>
                </a:lnTo>
                <a:lnTo>
                  <a:pt x="1693" y="432"/>
                </a:lnTo>
                <a:lnTo>
                  <a:pt x="1691" y="409"/>
                </a:lnTo>
                <a:lnTo>
                  <a:pt x="1691" y="388"/>
                </a:lnTo>
                <a:lnTo>
                  <a:pt x="1690" y="367"/>
                </a:lnTo>
                <a:lnTo>
                  <a:pt x="1688" y="348"/>
                </a:lnTo>
                <a:lnTo>
                  <a:pt x="1686" y="331"/>
                </a:lnTo>
                <a:lnTo>
                  <a:pt x="1684" y="313"/>
                </a:lnTo>
                <a:lnTo>
                  <a:pt x="1682" y="300"/>
                </a:lnTo>
                <a:lnTo>
                  <a:pt x="1678" y="285"/>
                </a:lnTo>
                <a:lnTo>
                  <a:pt x="1674" y="273"/>
                </a:lnTo>
                <a:lnTo>
                  <a:pt x="1670" y="262"/>
                </a:lnTo>
                <a:lnTo>
                  <a:pt x="1667" y="252"/>
                </a:lnTo>
                <a:lnTo>
                  <a:pt x="1663" y="242"/>
                </a:lnTo>
                <a:lnTo>
                  <a:pt x="1657" y="235"/>
                </a:lnTo>
                <a:lnTo>
                  <a:pt x="1651" y="229"/>
                </a:lnTo>
                <a:lnTo>
                  <a:pt x="1647" y="223"/>
                </a:lnTo>
                <a:lnTo>
                  <a:pt x="1628" y="215"/>
                </a:lnTo>
                <a:lnTo>
                  <a:pt x="1611" y="208"/>
                </a:lnTo>
                <a:lnTo>
                  <a:pt x="1594" y="200"/>
                </a:lnTo>
                <a:lnTo>
                  <a:pt x="1576" y="196"/>
                </a:lnTo>
                <a:lnTo>
                  <a:pt x="1559" y="191"/>
                </a:lnTo>
                <a:lnTo>
                  <a:pt x="1542" y="189"/>
                </a:lnTo>
                <a:lnTo>
                  <a:pt x="1524" y="187"/>
                </a:lnTo>
                <a:lnTo>
                  <a:pt x="1507" y="187"/>
                </a:lnTo>
                <a:lnTo>
                  <a:pt x="1494" y="187"/>
                </a:lnTo>
                <a:lnTo>
                  <a:pt x="1482" y="187"/>
                </a:lnTo>
                <a:lnTo>
                  <a:pt x="1469" y="187"/>
                </a:lnTo>
                <a:lnTo>
                  <a:pt x="1453" y="189"/>
                </a:lnTo>
                <a:lnTo>
                  <a:pt x="1440" y="189"/>
                </a:lnTo>
                <a:lnTo>
                  <a:pt x="1423" y="191"/>
                </a:lnTo>
                <a:lnTo>
                  <a:pt x="1407" y="192"/>
                </a:lnTo>
                <a:lnTo>
                  <a:pt x="1390" y="194"/>
                </a:lnTo>
                <a:lnTo>
                  <a:pt x="1373" y="196"/>
                </a:lnTo>
                <a:lnTo>
                  <a:pt x="1354" y="198"/>
                </a:lnTo>
                <a:lnTo>
                  <a:pt x="1334" y="200"/>
                </a:lnTo>
                <a:lnTo>
                  <a:pt x="1315" y="202"/>
                </a:lnTo>
                <a:lnTo>
                  <a:pt x="1294" y="204"/>
                </a:lnTo>
                <a:lnTo>
                  <a:pt x="1273" y="206"/>
                </a:lnTo>
                <a:lnTo>
                  <a:pt x="1250" y="210"/>
                </a:lnTo>
                <a:lnTo>
                  <a:pt x="1227" y="212"/>
                </a:lnTo>
                <a:lnTo>
                  <a:pt x="1202" y="214"/>
                </a:lnTo>
                <a:lnTo>
                  <a:pt x="1177" y="215"/>
                </a:lnTo>
                <a:lnTo>
                  <a:pt x="1148" y="219"/>
                </a:lnTo>
                <a:lnTo>
                  <a:pt x="1119" y="223"/>
                </a:lnTo>
                <a:lnTo>
                  <a:pt x="1087" y="225"/>
                </a:lnTo>
                <a:lnTo>
                  <a:pt x="1054" y="229"/>
                </a:lnTo>
                <a:lnTo>
                  <a:pt x="1020" y="233"/>
                </a:lnTo>
                <a:lnTo>
                  <a:pt x="983" y="237"/>
                </a:lnTo>
                <a:lnTo>
                  <a:pt x="943" y="240"/>
                </a:lnTo>
                <a:lnTo>
                  <a:pt x="903" y="246"/>
                </a:lnTo>
                <a:lnTo>
                  <a:pt x="860" y="250"/>
                </a:lnTo>
                <a:lnTo>
                  <a:pt x="816" y="254"/>
                </a:lnTo>
                <a:lnTo>
                  <a:pt x="770" y="260"/>
                </a:lnTo>
                <a:lnTo>
                  <a:pt x="722" y="263"/>
                </a:lnTo>
                <a:lnTo>
                  <a:pt x="672" y="267"/>
                </a:lnTo>
                <a:lnTo>
                  <a:pt x="620" y="273"/>
                </a:lnTo>
                <a:lnTo>
                  <a:pt x="595" y="277"/>
                </a:lnTo>
                <a:lnTo>
                  <a:pt x="571" y="279"/>
                </a:lnTo>
                <a:lnTo>
                  <a:pt x="546" y="283"/>
                </a:lnTo>
                <a:lnTo>
                  <a:pt x="523" y="285"/>
                </a:lnTo>
                <a:lnTo>
                  <a:pt x="500" y="288"/>
                </a:lnTo>
                <a:lnTo>
                  <a:pt x="476" y="290"/>
                </a:lnTo>
                <a:lnTo>
                  <a:pt x="455" y="292"/>
                </a:lnTo>
                <a:lnTo>
                  <a:pt x="434" y="294"/>
                </a:lnTo>
                <a:lnTo>
                  <a:pt x="415" y="296"/>
                </a:lnTo>
                <a:lnTo>
                  <a:pt x="396" y="298"/>
                </a:lnTo>
                <a:lnTo>
                  <a:pt x="377" y="300"/>
                </a:lnTo>
                <a:lnTo>
                  <a:pt x="357" y="300"/>
                </a:lnTo>
                <a:lnTo>
                  <a:pt x="340" y="302"/>
                </a:lnTo>
                <a:lnTo>
                  <a:pt x="325" y="302"/>
                </a:lnTo>
                <a:lnTo>
                  <a:pt x="308" y="304"/>
                </a:lnTo>
                <a:lnTo>
                  <a:pt x="292" y="304"/>
                </a:lnTo>
                <a:lnTo>
                  <a:pt x="279" y="304"/>
                </a:lnTo>
                <a:lnTo>
                  <a:pt x="265" y="306"/>
                </a:lnTo>
                <a:lnTo>
                  <a:pt x="252" y="306"/>
                </a:lnTo>
                <a:lnTo>
                  <a:pt x="238" y="306"/>
                </a:lnTo>
                <a:lnTo>
                  <a:pt x="227" y="306"/>
                </a:lnTo>
                <a:lnTo>
                  <a:pt x="215" y="306"/>
                </a:lnTo>
                <a:lnTo>
                  <a:pt x="206" y="304"/>
                </a:lnTo>
                <a:lnTo>
                  <a:pt x="194" y="304"/>
                </a:lnTo>
                <a:lnTo>
                  <a:pt x="187" y="304"/>
                </a:lnTo>
                <a:lnTo>
                  <a:pt x="177" y="304"/>
                </a:lnTo>
                <a:lnTo>
                  <a:pt x="169" y="302"/>
                </a:lnTo>
                <a:lnTo>
                  <a:pt x="162" y="302"/>
                </a:lnTo>
                <a:lnTo>
                  <a:pt x="156" y="300"/>
                </a:lnTo>
                <a:lnTo>
                  <a:pt x="150" y="300"/>
                </a:lnTo>
                <a:lnTo>
                  <a:pt x="144" y="298"/>
                </a:lnTo>
                <a:lnTo>
                  <a:pt x="141" y="298"/>
                </a:lnTo>
                <a:lnTo>
                  <a:pt x="131" y="294"/>
                </a:lnTo>
                <a:lnTo>
                  <a:pt x="121" y="292"/>
                </a:lnTo>
                <a:lnTo>
                  <a:pt x="114" y="288"/>
                </a:lnTo>
                <a:lnTo>
                  <a:pt x="104" y="285"/>
                </a:lnTo>
                <a:lnTo>
                  <a:pt x="96" y="279"/>
                </a:lnTo>
                <a:lnTo>
                  <a:pt x="87" y="273"/>
                </a:lnTo>
                <a:lnTo>
                  <a:pt x="79" y="267"/>
                </a:lnTo>
                <a:lnTo>
                  <a:pt x="70" y="262"/>
                </a:lnTo>
                <a:lnTo>
                  <a:pt x="60" y="254"/>
                </a:lnTo>
                <a:lnTo>
                  <a:pt x="52" y="246"/>
                </a:lnTo>
                <a:lnTo>
                  <a:pt x="43" y="237"/>
                </a:lnTo>
                <a:lnTo>
                  <a:pt x="35" y="229"/>
                </a:lnTo>
                <a:lnTo>
                  <a:pt x="25" y="219"/>
                </a:lnTo>
                <a:lnTo>
                  <a:pt x="18" y="208"/>
                </a:lnTo>
                <a:lnTo>
                  <a:pt x="8" y="198"/>
                </a:lnTo>
                <a:lnTo>
                  <a:pt x="0" y="187"/>
                </a:lnTo>
                <a:lnTo>
                  <a:pt x="37" y="187"/>
                </a:lnTo>
                <a:lnTo>
                  <a:pt x="73" y="185"/>
                </a:lnTo>
                <a:lnTo>
                  <a:pt x="110" y="185"/>
                </a:lnTo>
                <a:lnTo>
                  <a:pt x="146" y="185"/>
                </a:lnTo>
                <a:lnTo>
                  <a:pt x="181" y="183"/>
                </a:lnTo>
                <a:lnTo>
                  <a:pt x="215" y="181"/>
                </a:lnTo>
                <a:lnTo>
                  <a:pt x="283" y="179"/>
                </a:lnTo>
                <a:lnTo>
                  <a:pt x="350" y="175"/>
                </a:lnTo>
                <a:lnTo>
                  <a:pt x="415" y="171"/>
                </a:lnTo>
                <a:lnTo>
                  <a:pt x="478" y="166"/>
                </a:lnTo>
                <a:lnTo>
                  <a:pt x="544" y="162"/>
                </a:lnTo>
                <a:lnTo>
                  <a:pt x="609" y="156"/>
                </a:lnTo>
                <a:lnTo>
                  <a:pt x="674" y="150"/>
                </a:lnTo>
                <a:lnTo>
                  <a:pt x="741" y="143"/>
                </a:lnTo>
                <a:lnTo>
                  <a:pt x="810" y="135"/>
                </a:lnTo>
                <a:lnTo>
                  <a:pt x="881" y="127"/>
                </a:lnTo>
                <a:lnTo>
                  <a:pt x="954" y="118"/>
                </a:lnTo>
                <a:lnTo>
                  <a:pt x="1027" y="110"/>
                </a:lnTo>
                <a:lnTo>
                  <a:pt x="1102" y="100"/>
                </a:lnTo>
                <a:lnTo>
                  <a:pt x="1139" y="95"/>
                </a:lnTo>
                <a:lnTo>
                  <a:pt x="1175" y="91"/>
                </a:lnTo>
                <a:lnTo>
                  <a:pt x="1208" y="87"/>
                </a:lnTo>
                <a:lnTo>
                  <a:pt x="1238" y="81"/>
                </a:lnTo>
                <a:lnTo>
                  <a:pt x="1254" y="79"/>
                </a:lnTo>
                <a:lnTo>
                  <a:pt x="1269" y="77"/>
                </a:lnTo>
                <a:lnTo>
                  <a:pt x="1283" y="75"/>
                </a:lnTo>
                <a:lnTo>
                  <a:pt x="1296" y="72"/>
                </a:lnTo>
                <a:lnTo>
                  <a:pt x="1310" y="70"/>
                </a:lnTo>
                <a:lnTo>
                  <a:pt x="1321" y="68"/>
                </a:lnTo>
                <a:lnTo>
                  <a:pt x="1334" y="66"/>
                </a:lnTo>
                <a:lnTo>
                  <a:pt x="1346" y="64"/>
                </a:lnTo>
                <a:lnTo>
                  <a:pt x="1356" y="60"/>
                </a:lnTo>
                <a:lnTo>
                  <a:pt x="1367" y="58"/>
                </a:lnTo>
                <a:lnTo>
                  <a:pt x="1377" y="56"/>
                </a:lnTo>
                <a:lnTo>
                  <a:pt x="1386" y="54"/>
                </a:lnTo>
                <a:lnTo>
                  <a:pt x="1396" y="52"/>
                </a:lnTo>
                <a:lnTo>
                  <a:pt x="1404" y="48"/>
                </a:lnTo>
                <a:lnTo>
                  <a:pt x="1411" y="47"/>
                </a:lnTo>
                <a:lnTo>
                  <a:pt x="1419" y="45"/>
                </a:lnTo>
                <a:lnTo>
                  <a:pt x="1427" y="43"/>
                </a:lnTo>
                <a:lnTo>
                  <a:pt x="1432" y="41"/>
                </a:lnTo>
                <a:lnTo>
                  <a:pt x="1438" y="37"/>
                </a:lnTo>
                <a:lnTo>
                  <a:pt x="1444" y="35"/>
                </a:lnTo>
                <a:lnTo>
                  <a:pt x="1448" y="33"/>
                </a:lnTo>
                <a:lnTo>
                  <a:pt x="1453" y="31"/>
                </a:lnTo>
                <a:lnTo>
                  <a:pt x="1457" y="27"/>
                </a:lnTo>
                <a:lnTo>
                  <a:pt x="1459" y="25"/>
                </a:lnTo>
                <a:lnTo>
                  <a:pt x="1467" y="22"/>
                </a:lnTo>
                <a:lnTo>
                  <a:pt x="1475" y="16"/>
                </a:lnTo>
                <a:lnTo>
                  <a:pt x="1484" y="12"/>
                </a:lnTo>
                <a:lnTo>
                  <a:pt x="1494" y="8"/>
                </a:lnTo>
                <a:lnTo>
                  <a:pt x="1507" y="6"/>
                </a:lnTo>
                <a:lnTo>
                  <a:pt x="1521" y="2"/>
                </a:lnTo>
                <a:lnTo>
                  <a:pt x="1536" y="2"/>
                </a:lnTo>
                <a:lnTo>
                  <a:pt x="1553" y="0"/>
                </a:lnTo>
                <a:lnTo>
                  <a:pt x="1559" y="0"/>
                </a:lnTo>
                <a:lnTo>
                  <a:pt x="1567" y="2"/>
                </a:lnTo>
                <a:lnTo>
                  <a:pt x="1576" y="4"/>
                </a:lnTo>
                <a:lnTo>
                  <a:pt x="1588" y="8"/>
                </a:lnTo>
                <a:lnTo>
                  <a:pt x="1599" y="12"/>
                </a:lnTo>
                <a:lnTo>
                  <a:pt x="1613" y="16"/>
                </a:lnTo>
                <a:lnTo>
                  <a:pt x="1628" y="22"/>
                </a:lnTo>
                <a:lnTo>
                  <a:pt x="1643" y="27"/>
                </a:lnTo>
                <a:lnTo>
                  <a:pt x="1663" y="33"/>
                </a:lnTo>
                <a:lnTo>
                  <a:pt x="1680" y="41"/>
                </a:lnTo>
                <a:lnTo>
                  <a:pt x="1701" y="48"/>
                </a:lnTo>
                <a:lnTo>
                  <a:pt x="1722" y="58"/>
                </a:lnTo>
                <a:lnTo>
                  <a:pt x="1743" y="68"/>
                </a:lnTo>
                <a:lnTo>
                  <a:pt x="1766" y="77"/>
                </a:lnTo>
                <a:lnTo>
                  <a:pt x="1791" y="89"/>
                </a:lnTo>
                <a:lnTo>
                  <a:pt x="1818" y="100"/>
                </a:lnTo>
                <a:lnTo>
                  <a:pt x="1843" y="112"/>
                </a:lnTo>
                <a:lnTo>
                  <a:pt x="1866" y="123"/>
                </a:lnTo>
                <a:lnTo>
                  <a:pt x="1889" y="133"/>
                </a:lnTo>
                <a:lnTo>
                  <a:pt x="1910" y="144"/>
                </a:lnTo>
                <a:lnTo>
                  <a:pt x="1929" y="154"/>
                </a:lnTo>
                <a:lnTo>
                  <a:pt x="1947" y="164"/>
                </a:lnTo>
                <a:lnTo>
                  <a:pt x="1964" y="173"/>
                </a:lnTo>
                <a:lnTo>
                  <a:pt x="1977" y="183"/>
                </a:lnTo>
                <a:lnTo>
                  <a:pt x="1991" y="191"/>
                </a:lnTo>
                <a:lnTo>
                  <a:pt x="2002" y="198"/>
                </a:lnTo>
                <a:lnTo>
                  <a:pt x="2012" y="206"/>
                </a:lnTo>
                <a:lnTo>
                  <a:pt x="2020" y="214"/>
                </a:lnTo>
                <a:lnTo>
                  <a:pt x="2027" y="219"/>
                </a:lnTo>
                <a:lnTo>
                  <a:pt x="2031" y="225"/>
                </a:lnTo>
                <a:lnTo>
                  <a:pt x="2033" y="231"/>
                </a:lnTo>
                <a:lnTo>
                  <a:pt x="2035" y="237"/>
                </a:lnTo>
                <a:lnTo>
                  <a:pt x="2033" y="244"/>
                </a:lnTo>
                <a:lnTo>
                  <a:pt x="2031" y="254"/>
                </a:lnTo>
                <a:lnTo>
                  <a:pt x="2027" y="263"/>
                </a:lnTo>
                <a:lnTo>
                  <a:pt x="2024" y="271"/>
                </a:lnTo>
                <a:lnTo>
                  <a:pt x="2016" y="279"/>
                </a:lnTo>
                <a:lnTo>
                  <a:pt x="2008" y="287"/>
                </a:lnTo>
                <a:lnTo>
                  <a:pt x="1999" y="292"/>
                </a:lnTo>
                <a:lnTo>
                  <a:pt x="1989" y="298"/>
                </a:lnTo>
                <a:lnTo>
                  <a:pt x="1985" y="300"/>
                </a:lnTo>
                <a:lnTo>
                  <a:pt x="1983" y="302"/>
                </a:lnTo>
                <a:lnTo>
                  <a:pt x="1979" y="306"/>
                </a:lnTo>
                <a:lnTo>
                  <a:pt x="1977" y="310"/>
                </a:lnTo>
                <a:lnTo>
                  <a:pt x="1974" y="313"/>
                </a:lnTo>
                <a:lnTo>
                  <a:pt x="1972" y="319"/>
                </a:lnTo>
                <a:lnTo>
                  <a:pt x="1970" y="327"/>
                </a:lnTo>
                <a:lnTo>
                  <a:pt x="1968" y="334"/>
                </a:lnTo>
                <a:lnTo>
                  <a:pt x="1966" y="342"/>
                </a:lnTo>
                <a:lnTo>
                  <a:pt x="1962" y="352"/>
                </a:lnTo>
                <a:lnTo>
                  <a:pt x="1960" y="361"/>
                </a:lnTo>
                <a:lnTo>
                  <a:pt x="1958" y="373"/>
                </a:lnTo>
                <a:lnTo>
                  <a:pt x="1956" y="384"/>
                </a:lnTo>
                <a:lnTo>
                  <a:pt x="1954" y="396"/>
                </a:lnTo>
                <a:lnTo>
                  <a:pt x="1953" y="409"/>
                </a:lnTo>
                <a:lnTo>
                  <a:pt x="1951" y="425"/>
                </a:lnTo>
                <a:lnTo>
                  <a:pt x="1949" y="438"/>
                </a:lnTo>
                <a:lnTo>
                  <a:pt x="1947" y="455"/>
                </a:lnTo>
                <a:lnTo>
                  <a:pt x="1945" y="471"/>
                </a:lnTo>
                <a:lnTo>
                  <a:pt x="1945" y="488"/>
                </a:lnTo>
                <a:lnTo>
                  <a:pt x="1943" y="507"/>
                </a:lnTo>
                <a:lnTo>
                  <a:pt x="1941" y="525"/>
                </a:lnTo>
                <a:lnTo>
                  <a:pt x="1939" y="544"/>
                </a:lnTo>
                <a:lnTo>
                  <a:pt x="1937" y="565"/>
                </a:lnTo>
                <a:lnTo>
                  <a:pt x="1935" y="586"/>
                </a:lnTo>
                <a:lnTo>
                  <a:pt x="1935" y="607"/>
                </a:lnTo>
                <a:lnTo>
                  <a:pt x="1933" y="630"/>
                </a:lnTo>
                <a:lnTo>
                  <a:pt x="1931" y="653"/>
                </a:lnTo>
                <a:lnTo>
                  <a:pt x="1929" y="678"/>
                </a:lnTo>
                <a:lnTo>
                  <a:pt x="1929" y="703"/>
                </a:lnTo>
                <a:lnTo>
                  <a:pt x="1928" y="728"/>
                </a:lnTo>
                <a:lnTo>
                  <a:pt x="1926" y="755"/>
                </a:lnTo>
                <a:lnTo>
                  <a:pt x="1924" y="807"/>
                </a:lnTo>
                <a:lnTo>
                  <a:pt x="1920" y="859"/>
                </a:lnTo>
                <a:lnTo>
                  <a:pt x="1918" y="908"/>
                </a:lnTo>
                <a:lnTo>
                  <a:pt x="1914" y="958"/>
                </a:lnTo>
                <a:lnTo>
                  <a:pt x="1910" y="1006"/>
                </a:lnTo>
                <a:lnTo>
                  <a:pt x="1908" y="1052"/>
                </a:lnTo>
                <a:lnTo>
                  <a:pt x="1905" y="1097"/>
                </a:lnTo>
                <a:lnTo>
                  <a:pt x="1901" y="1141"/>
                </a:lnTo>
                <a:lnTo>
                  <a:pt x="1897" y="1183"/>
                </a:lnTo>
                <a:lnTo>
                  <a:pt x="1893" y="1223"/>
                </a:lnTo>
                <a:lnTo>
                  <a:pt x="1889" y="1262"/>
                </a:lnTo>
                <a:lnTo>
                  <a:pt x="1883" y="1300"/>
                </a:lnTo>
                <a:lnTo>
                  <a:pt x="1880" y="1335"/>
                </a:lnTo>
                <a:lnTo>
                  <a:pt x="1874" y="1369"/>
                </a:lnTo>
                <a:lnTo>
                  <a:pt x="1870" y="1402"/>
                </a:lnTo>
                <a:lnTo>
                  <a:pt x="1864" y="14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64"/>
          <p:cNvSpPr/>
          <p:nvPr/>
        </p:nvSpPr>
        <p:spPr>
          <a:xfrm>
            <a:off x="5842080" y="2825640"/>
            <a:ext cx="890640" cy="857520"/>
          </a:xfrm>
          <a:custGeom>
            <a:avLst/>
            <a:gdLst/>
            <a:ahLst/>
            <a:rect l="l" t="t" r="r" b="b"/>
            <a:pathLst>
              <a:path w="1121" h="1081">
                <a:moveTo>
                  <a:pt x="4" y="1079"/>
                </a:moveTo>
                <a:lnTo>
                  <a:pt x="0" y="1075"/>
                </a:lnTo>
                <a:lnTo>
                  <a:pt x="0" y="1071"/>
                </a:lnTo>
                <a:lnTo>
                  <a:pt x="2" y="1068"/>
                </a:lnTo>
                <a:lnTo>
                  <a:pt x="6" y="1062"/>
                </a:lnTo>
                <a:lnTo>
                  <a:pt x="9" y="1056"/>
                </a:lnTo>
                <a:lnTo>
                  <a:pt x="17" y="1048"/>
                </a:lnTo>
                <a:lnTo>
                  <a:pt x="25" y="1041"/>
                </a:lnTo>
                <a:lnTo>
                  <a:pt x="34" y="1033"/>
                </a:lnTo>
                <a:lnTo>
                  <a:pt x="46" y="1023"/>
                </a:lnTo>
                <a:lnTo>
                  <a:pt x="57" y="1012"/>
                </a:lnTo>
                <a:lnTo>
                  <a:pt x="71" y="1000"/>
                </a:lnTo>
                <a:lnTo>
                  <a:pt x="86" y="989"/>
                </a:lnTo>
                <a:lnTo>
                  <a:pt x="102" y="975"/>
                </a:lnTo>
                <a:lnTo>
                  <a:pt x="121" y="962"/>
                </a:lnTo>
                <a:lnTo>
                  <a:pt x="138" y="947"/>
                </a:lnTo>
                <a:lnTo>
                  <a:pt x="159" y="931"/>
                </a:lnTo>
                <a:lnTo>
                  <a:pt x="178" y="914"/>
                </a:lnTo>
                <a:lnTo>
                  <a:pt x="199" y="897"/>
                </a:lnTo>
                <a:lnTo>
                  <a:pt x="219" y="879"/>
                </a:lnTo>
                <a:lnTo>
                  <a:pt x="240" y="860"/>
                </a:lnTo>
                <a:lnTo>
                  <a:pt x="261" y="841"/>
                </a:lnTo>
                <a:lnTo>
                  <a:pt x="282" y="822"/>
                </a:lnTo>
                <a:lnTo>
                  <a:pt x="303" y="803"/>
                </a:lnTo>
                <a:lnTo>
                  <a:pt x="324" y="782"/>
                </a:lnTo>
                <a:lnTo>
                  <a:pt x="345" y="760"/>
                </a:lnTo>
                <a:lnTo>
                  <a:pt x="366" y="739"/>
                </a:lnTo>
                <a:lnTo>
                  <a:pt x="388" y="718"/>
                </a:lnTo>
                <a:lnTo>
                  <a:pt x="411" y="695"/>
                </a:lnTo>
                <a:lnTo>
                  <a:pt x="432" y="670"/>
                </a:lnTo>
                <a:lnTo>
                  <a:pt x="455" y="647"/>
                </a:lnTo>
                <a:lnTo>
                  <a:pt x="478" y="622"/>
                </a:lnTo>
                <a:lnTo>
                  <a:pt x="501" y="597"/>
                </a:lnTo>
                <a:lnTo>
                  <a:pt x="520" y="572"/>
                </a:lnTo>
                <a:lnTo>
                  <a:pt x="539" y="547"/>
                </a:lnTo>
                <a:lnTo>
                  <a:pt x="558" y="522"/>
                </a:lnTo>
                <a:lnTo>
                  <a:pt x="578" y="499"/>
                </a:lnTo>
                <a:lnTo>
                  <a:pt x="597" y="476"/>
                </a:lnTo>
                <a:lnTo>
                  <a:pt x="614" y="453"/>
                </a:lnTo>
                <a:lnTo>
                  <a:pt x="631" y="432"/>
                </a:lnTo>
                <a:lnTo>
                  <a:pt x="649" y="409"/>
                </a:lnTo>
                <a:lnTo>
                  <a:pt x="666" y="388"/>
                </a:lnTo>
                <a:lnTo>
                  <a:pt x="681" y="369"/>
                </a:lnTo>
                <a:lnTo>
                  <a:pt x="697" y="348"/>
                </a:lnTo>
                <a:lnTo>
                  <a:pt x="712" y="329"/>
                </a:lnTo>
                <a:lnTo>
                  <a:pt x="725" y="307"/>
                </a:lnTo>
                <a:lnTo>
                  <a:pt x="739" y="288"/>
                </a:lnTo>
                <a:lnTo>
                  <a:pt x="752" y="271"/>
                </a:lnTo>
                <a:lnTo>
                  <a:pt x="764" y="252"/>
                </a:lnTo>
                <a:lnTo>
                  <a:pt x="775" y="235"/>
                </a:lnTo>
                <a:lnTo>
                  <a:pt x="785" y="219"/>
                </a:lnTo>
                <a:lnTo>
                  <a:pt x="794" y="206"/>
                </a:lnTo>
                <a:lnTo>
                  <a:pt x="802" y="190"/>
                </a:lnTo>
                <a:lnTo>
                  <a:pt x="808" y="177"/>
                </a:lnTo>
                <a:lnTo>
                  <a:pt x="814" y="164"/>
                </a:lnTo>
                <a:lnTo>
                  <a:pt x="819" y="152"/>
                </a:lnTo>
                <a:lnTo>
                  <a:pt x="823" y="140"/>
                </a:lnTo>
                <a:lnTo>
                  <a:pt x="827" y="129"/>
                </a:lnTo>
                <a:lnTo>
                  <a:pt x="829" y="117"/>
                </a:lnTo>
                <a:lnTo>
                  <a:pt x="831" y="108"/>
                </a:lnTo>
                <a:lnTo>
                  <a:pt x="831" y="98"/>
                </a:lnTo>
                <a:lnTo>
                  <a:pt x="831" y="89"/>
                </a:lnTo>
                <a:lnTo>
                  <a:pt x="829" y="81"/>
                </a:lnTo>
                <a:lnTo>
                  <a:pt x="829" y="73"/>
                </a:lnTo>
                <a:lnTo>
                  <a:pt x="825" y="66"/>
                </a:lnTo>
                <a:lnTo>
                  <a:pt x="819" y="62"/>
                </a:lnTo>
                <a:lnTo>
                  <a:pt x="816" y="56"/>
                </a:lnTo>
                <a:lnTo>
                  <a:pt x="812" y="52"/>
                </a:lnTo>
                <a:lnTo>
                  <a:pt x="808" y="48"/>
                </a:lnTo>
                <a:lnTo>
                  <a:pt x="806" y="43"/>
                </a:lnTo>
                <a:lnTo>
                  <a:pt x="804" y="39"/>
                </a:lnTo>
                <a:lnTo>
                  <a:pt x="804" y="35"/>
                </a:lnTo>
                <a:lnTo>
                  <a:pt x="804" y="31"/>
                </a:lnTo>
                <a:lnTo>
                  <a:pt x="806" y="27"/>
                </a:lnTo>
                <a:lnTo>
                  <a:pt x="808" y="23"/>
                </a:lnTo>
                <a:lnTo>
                  <a:pt x="812" y="20"/>
                </a:lnTo>
                <a:lnTo>
                  <a:pt x="816" y="16"/>
                </a:lnTo>
                <a:lnTo>
                  <a:pt x="819" y="12"/>
                </a:lnTo>
                <a:lnTo>
                  <a:pt x="827" y="10"/>
                </a:lnTo>
                <a:lnTo>
                  <a:pt x="833" y="6"/>
                </a:lnTo>
                <a:lnTo>
                  <a:pt x="842" y="4"/>
                </a:lnTo>
                <a:lnTo>
                  <a:pt x="848" y="2"/>
                </a:lnTo>
                <a:lnTo>
                  <a:pt x="854" y="0"/>
                </a:lnTo>
                <a:lnTo>
                  <a:pt x="862" y="0"/>
                </a:lnTo>
                <a:lnTo>
                  <a:pt x="871" y="0"/>
                </a:lnTo>
                <a:lnTo>
                  <a:pt x="879" y="0"/>
                </a:lnTo>
                <a:lnTo>
                  <a:pt x="888" y="0"/>
                </a:lnTo>
                <a:lnTo>
                  <a:pt x="898" y="2"/>
                </a:lnTo>
                <a:lnTo>
                  <a:pt x="910" y="6"/>
                </a:lnTo>
                <a:lnTo>
                  <a:pt x="921" y="8"/>
                </a:lnTo>
                <a:lnTo>
                  <a:pt x="933" y="12"/>
                </a:lnTo>
                <a:lnTo>
                  <a:pt x="944" y="18"/>
                </a:lnTo>
                <a:lnTo>
                  <a:pt x="958" y="23"/>
                </a:lnTo>
                <a:lnTo>
                  <a:pt x="971" y="29"/>
                </a:lnTo>
                <a:lnTo>
                  <a:pt x="984" y="37"/>
                </a:lnTo>
                <a:lnTo>
                  <a:pt x="998" y="45"/>
                </a:lnTo>
                <a:lnTo>
                  <a:pt x="1013" y="54"/>
                </a:lnTo>
                <a:lnTo>
                  <a:pt x="1027" y="64"/>
                </a:lnTo>
                <a:lnTo>
                  <a:pt x="1040" y="71"/>
                </a:lnTo>
                <a:lnTo>
                  <a:pt x="1052" y="81"/>
                </a:lnTo>
                <a:lnTo>
                  <a:pt x="1061" y="89"/>
                </a:lnTo>
                <a:lnTo>
                  <a:pt x="1071" y="96"/>
                </a:lnTo>
                <a:lnTo>
                  <a:pt x="1080" y="104"/>
                </a:lnTo>
                <a:lnTo>
                  <a:pt x="1088" y="112"/>
                </a:lnTo>
                <a:lnTo>
                  <a:pt x="1096" y="119"/>
                </a:lnTo>
                <a:lnTo>
                  <a:pt x="1102" y="125"/>
                </a:lnTo>
                <a:lnTo>
                  <a:pt x="1107" y="133"/>
                </a:lnTo>
                <a:lnTo>
                  <a:pt x="1111" y="139"/>
                </a:lnTo>
                <a:lnTo>
                  <a:pt x="1115" y="144"/>
                </a:lnTo>
                <a:lnTo>
                  <a:pt x="1117" y="150"/>
                </a:lnTo>
                <a:lnTo>
                  <a:pt x="1119" y="156"/>
                </a:lnTo>
                <a:lnTo>
                  <a:pt x="1121" y="160"/>
                </a:lnTo>
                <a:lnTo>
                  <a:pt x="1121" y="165"/>
                </a:lnTo>
                <a:lnTo>
                  <a:pt x="1121" y="169"/>
                </a:lnTo>
                <a:lnTo>
                  <a:pt x="1119" y="175"/>
                </a:lnTo>
                <a:lnTo>
                  <a:pt x="1117" y="181"/>
                </a:lnTo>
                <a:lnTo>
                  <a:pt x="1115" y="188"/>
                </a:lnTo>
                <a:lnTo>
                  <a:pt x="1111" y="196"/>
                </a:lnTo>
                <a:lnTo>
                  <a:pt x="1107" y="204"/>
                </a:lnTo>
                <a:lnTo>
                  <a:pt x="1102" y="211"/>
                </a:lnTo>
                <a:lnTo>
                  <a:pt x="1096" y="221"/>
                </a:lnTo>
                <a:lnTo>
                  <a:pt x="1088" y="233"/>
                </a:lnTo>
                <a:lnTo>
                  <a:pt x="1080" y="242"/>
                </a:lnTo>
                <a:lnTo>
                  <a:pt x="1071" y="254"/>
                </a:lnTo>
                <a:lnTo>
                  <a:pt x="1061" y="267"/>
                </a:lnTo>
                <a:lnTo>
                  <a:pt x="1052" y="281"/>
                </a:lnTo>
                <a:lnTo>
                  <a:pt x="1038" y="294"/>
                </a:lnTo>
                <a:lnTo>
                  <a:pt x="1027" y="309"/>
                </a:lnTo>
                <a:lnTo>
                  <a:pt x="1013" y="325"/>
                </a:lnTo>
                <a:lnTo>
                  <a:pt x="998" y="342"/>
                </a:lnTo>
                <a:lnTo>
                  <a:pt x="981" y="359"/>
                </a:lnTo>
                <a:lnTo>
                  <a:pt x="963" y="378"/>
                </a:lnTo>
                <a:lnTo>
                  <a:pt x="946" y="398"/>
                </a:lnTo>
                <a:lnTo>
                  <a:pt x="927" y="417"/>
                </a:lnTo>
                <a:lnTo>
                  <a:pt x="906" y="436"/>
                </a:lnTo>
                <a:lnTo>
                  <a:pt x="885" y="457"/>
                </a:lnTo>
                <a:lnTo>
                  <a:pt x="862" y="480"/>
                </a:lnTo>
                <a:lnTo>
                  <a:pt x="839" y="501"/>
                </a:lnTo>
                <a:lnTo>
                  <a:pt x="816" y="524"/>
                </a:lnTo>
                <a:lnTo>
                  <a:pt x="791" y="547"/>
                </a:lnTo>
                <a:lnTo>
                  <a:pt x="766" y="570"/>
                </a:lnTo>
                <a:lnTo>
                  <a:pt x="739" y="595"/>
                </a:lnTo>
                <a:lnTo>
                  <a:pt x="712" y="620"/>
                </a:lnTo>
                <a:lnTo>
                  <a:pt x="683" y="645"/>
                </a:lnTo>
                <a:lnTo>
                  <a:pt x="654" y="672"/>
                </a:lnTo>
                <a:lnTo>
                  <a:pt x="626" y="697"/>
                </a:lnTo>
                <a:lnTo>
                  <a:pt x="597" y="722"/>
                </a:lnTo>
                <a:lnTo>
                  <a:pt x="570" y="745"/>
                </a:lnTo>
                <a:lnTo>
                  <a:pt x="541" y="768"/>
                </a:lnTo>
                <a:lnTo>
                  <a:pt x="514" y="791"/>
                </a:lnTo>
                <a:lnTo>
                  <a:pt x="487" y="814"/>
                </a:lnTo>
                <a:lnTo>
                  <a:pt x="460" y="835"/>
                </a:lnTo>
                <a:lnTo>
                  <a:pt x="434" y="855"/>
                </a:lnTo>
                <a:lnTo>
                  <a:pt x="409" y="876"/>
                </a:lnTo>
                <a:lnTo>
                  <a:pt x="382" y="893"/>
                </a:lnTo>
                <a:lnTo>
                  <a:pt x="357" y="912"/>
                </a:lnTo>
                <a:lnTo>
                  <a:pt x="332" y="929"/>
                </a:lnTo>
                <a:lnTo>
                  <a:pt x="307" y="947"/>
                </a:lnTo>
                <a:lnTo>
                  <a:pt x="282" y="962"/>
                </a:lnTo>
                <a:lnTo>
                  <a:pt x="259" y="977"/>
                </a:lnTo>
                <a:lnTo>
                  <a:pt x="236" y="993"/>
                </a:lnTo>
                <a:lnTo>
                  <a:pt x="211" y="1006"/>
                </a:lnTo>
                <a:lnTo>
                  <a:pt x="186" y="1018"/>
                </a:lnTo>
                <a:lnTo>
                  <a:pt x="163" y="1029"/>
                </a:lnTo>
                <a:lnTo>
                  <a:pt x="142" y="1039"/>
                </a:lnTo>
                <a:lnTo>
                  <a:pt x="123" y="1048"/>
                </a:lnTo>
                <a:lnTo>
                  <a:pt x="105" y="1056"/>
                </a:lnTo>
                <a:lnTo>
                  <a:pt x="88" y="1062"/>
                </a:lnTo>
                <a:lnTo>
                  <a:pt x="73" y="1068"/>
                </a:lnTo>
                <a:lnTo>
                  <a:pt x="59" y="1073"/>
                </a:lnTo>
                <a:lnTo>
                  <a:pt x="46" y="1077"/>
                </a:lnTo>
                <a:lnTo>
                  <a:pt x="36" y="1079"/>
                </a:lnTo>
                <a:lnTo>
                  <a:pt x="27" y="1081"/>
                </a:lnTo>
                <a:lnTo>
                  <a:pt x="17" y="1081"/>
                </a:lnTo>
                <a:lnTo>
                  <a:pt x="11" y="1081"/>
                </a:lnTo>
                <a:lnTo>
                  <a:pt x="6" y="1081"/>
                </a:lnTo>
                <a:lnTo>
                  <a:pt x="4" y="107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4"/>
          <p:cNvSpPr/>
          <p:nvPr/>
        </p:nvSpPr>
        <p:spPr>
          <a:xfrm>
            <a:off x="2266200" y="25002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99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又”字的捺画要写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2"/>
          <p:cNvSpPr/>
          <p:nvPr/>
        </p:nvSpPr>
        <p:spPr>
          <a:xfrm>
            <a:off x="2192400" y="184140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Freeform 48"/>
          <p:cNvSpPr/>
          <p:nvPr/>
        </p:nvSpPr>
        <p:spPr>
          <a:xfrm>
            <a:off x="6488280" y="3282840"/>
            <a:ext cx="895320" cy="1614600"/>
          </a:xfrm>
          <a:custGeom>
            <a:avLst/>
            <a:gdLst/>
            <a:ahLst/>
            <a:rect l="l" t="t" r="r" b="b"/>
            <a:pathLst>
              <a:path w="1128" h="2033">
                <a:moveTo>
                  <a:pt x="791" y="670"/>
                </a:moveTo>
                <a:lnTo>
                  <a:pt x="796" y="647"/>
                </a:lnTo>
                <a:lnTo>
                  <a:pt x="802" y="626"/>
                </a:lnTo>
                <a:lnTo>
                  <a:pt x="806" y="605"/>
                </a:lnTo>
                <a:lnTo>
                  <a:pt x="812" y="586"/>
                </a:lnTo>
                <a:lnTo>
                  <a:pt x="816" y="567"/>
                </a:lnTo>
                <a:lnTo>
                  <a:pt x="819" y="547"/>
                </a:lnTo>
                <a:lnTo>
                  <a:pt x="823" y="528"/>
                </a:lnTo>
                <a:lnTo>
                  <a:pt x="827" y="511"/>
                </a:lnTo>
                <a:lnTo>
                  <a:pt x="831" y="494"/>
                </a:lnTo>
                <a:lnTo>
                  <a:pt x="835" y="476"/>
                </a:lnTo>
                <a:lnTo>
                  <a:pt x="839" y="461"/>
                </a:lnTo>
                <a:lnTo>
                  <a:pt x="840" y="446"/>
                </a:lnTo>
                <a:lnTo>
                  <a:pt x="844" y="430"/>
                </a:lnTo>
                <a:lnTo>
                  <a:pt x="846" y="417"/>
                </a:lnTo>
                <a:lnTo>
                  <a:pt x="848" y="403"/>
                </a:lnTo>
                <a:lnTo>
                  <a:pt x="850" y="390"/>
                </a:lnTo>
                <a:lnTo>
                  <a:pt x="852" y="379"/>
                </a:lnTo>
                <a:lnTo>
                  <a:pt x="854" y="367"/>
                </a:lnTo>
                <a:lnTo>
                  <a:pt x="856" y="356"/>
                </a:lnTo>
                <a:lnTo>
                  <a:pt x="856" y="346"/>
                </a:lnTo>
                <a:lnTo>
                  <a:pt x="858" y="334"/>
                </a:lnTo>
                <a:lnTo>
                  <a:pt x="858" y="327"/>
                </a:lnTo>
                <a:lnTo>
                  <a:pt x="858" y="317"/>
                </a:lnTo>
                <a:lnTo>
                  <a:pt x="858" y="309"/>
                </a:lnTo>
                <a:lnTo>
                  <a:pt x="858" y="302"/>
                </a:lnTo>
                <a:lnTo>
                  <a:pt x="858" y="296"/>
                </a:lnTo>
                <a:lnTo>
                  <a:pt x="856" y="290"/>
                </a:lnTo>
                <a:lnTo>
                  <a:pt x="856" y="284"/>
                </a:lnTo>
                <a:lnTo>
                  <a:pt x="854" y="279"/>
                </a:lnTo>
                <a:lnTo>
                  <a:pt x="852" y="275"/>
                </a:lnTo>
                <a:lnTo>
                  <a:pt x="852" y="271"/>
                </a:lnTo>
                <a:lnTo>
                  <a:pt x="850" y="267"/>
                </a:lnTo>
                <a:lnTo>
                  <a:pt x="842" y="265"/>
                </a:lnTo>
                <a:lnTo>
                  <a:pt x="835" y="263"/>
                </a:lnTo>
                <a:lnTo>
                  <a:pt x="825" y="261"/>
                </a:lnTo>
                <a:lnTo>
                  <a:pt x="814" y="261"/>
                </a:lnTo>
                <a:lnTo>
                  <a:pt x="802" y="261"/>
                </a:lnTo>
                <a:lnTo>
                  <a:pt x="791" y="263"/>
                </a:lnTo>
                <a:lnTo>
                  <a:pt x="775" y="265"/>
                </a:lnTo>
                <a:lnTo>
                  <a:pt x="760" y="267"/>
                </a:lnTo>
                <a:lnTo>
                  <a:pt x="745" y="271"/>
                </a:lnTo>
                <a:lnTo>
                  <a:pt x="727" y="275"/>
                </a:lnTo>
                <a:lnTo>
                  <a:pt x="708" y="279"/>
                </a:lnTo>
                <a:lnTo>
                  <a:pt x="687" y="284"/>
                </a:lnTo>
                <a:lnTo>
                  <a:pt x="666" y="290"/>
                </a:lnTo>
                <a:lnTo>
                  <a:pt x="643" y="296"/>
                </a:lnTo>
                <a:lnTo>
                  <a:pt x="620" y="304"/>
                </a:lnTo>
                <a:lnTo>
                  <a:pt x="595" y="313"/>
                </a:lnTo>
                <a:lnTo>
                  <a:pt x="566" y="323"/>
                </a:lnTo>
                <a:lnTo>
                  <a:pt x="541" y="334"/>
                </a:lnTo>
                <a:lnTo>
                  <a:pt x="518" y="344"/>
                </a:lnTo>
                <a:lnTo>
                  <a:pt x="495" y="352"/>
                </a:lnTo>
                <a:lnTo>
                  <a:pt x="476" y="359"/>
                </a:lnTo>
                <a:lnTo>
                  <a:pt x="459" y="367"/>
                </a:lnTo>
                <a:lnTo>
                  <a:pt x="441" y="375"/>
                </a:lnTo>
                <a:lnTo>
                  <a:pt x="426" y="380"/>
                </a:lnTo>
                <a:lnTo>
                  <a:pt x="412" y="384"/>
                </a:lnTo>
                <a:lnTo>
                  <a:pt x="401" y="390"/>
                </a:lnTo>
                <a:lnTo>
                  <a:pt x="391" y="394"/>
                </a:lnTo>
                <a:lnTo>
                  <a:pt x="382" y="396"/>
                </a:lnTo>
                <a:lnTo>
                  <a:pt x="374" y="398"/>
                </a:lnTo>
                <a:lnTo>
                  <a:pt x="368" y="400"/>
                </a:lnTo>
                <a:lnTo>
                  <a:pt x="364" y="402"/>
                </a:lnTo>
                <a:lnTo>
                  <a:pt x="363" y="402"/>
                </a:lnTo>
                <a:lnTo>
                  <a:pt x="359" y="402"/>
                </a:lnTo>
                <a:lnTo>
                  <a:pt x="355" y="400"/>
                </a:lnTo>
                <a:lnTo>
                  <a:pt x="351" y="398"/>
                </a:lnTo>
                <a:lnTo>
                  <a:pt x="345" y="394"/>
                </a:lnTo>
                <a:lnTo>
                  <a:pt x="338" y="390"/>
                </a:lnTo>
                <a:lnTo>
                  <a:pt x="330" y="384"/>
                </a:lnTo>
                <a:lnTo>
                  <a:pt x="322" y="377"/>
                </a:lnTo>
                <a:lnTo>
                  <a:pt x="313" y="371"/>
                </a:lnTo>
                <a:lnTo>
                  <a:pt x="301" y="363"/>
                </a:lnTo>
                <a:lnTo>
                  <a:pt x="292" y="354"/>
                </a:lnTo>
                <a:lnTo>
                  <a:pt x="280" y="344"/>
                </a:lnTo>
                <a:lnTo>
                  <a:pt x="267" y="332"/>
                </a:lnTo>
                <a:lnTo>
                  <a:pt x="253" y="321"/>
                </a:lnTo>
                <a:lnTo>
                  <a:pt x="240" y="309"/>
                </a:lnTo>
                <a:lnTo>
                  <a:pt x="226" y="296"/>
                </a:lnTo>
                <a:lnTo>
                  <a:pt x="211" y="283"/>
                </a:lnTo>
                <a:lnTo>
                  <a:pt x="253" y="271"/>
                </a:lnTo>
                <a:lnTo>
                  <a:pt x="295" y="261"/>
                </a:lnTo>
                <a:lnTo>
                  <a:pt x="334" y="250"/>
                </a:lnTo>
                <a:lnTo>
                  <a:pt x="372" y="240"/>
                </a:lnTo>
                <a:lnTo>
                  <a:pt x="409" y="231"/>
                </a:lnTo>
                <a:lnTo>
                  <a:pt x="441" y="221"/>
                </a:lnTo>
                <a:lnTo>
                  <a:pt x="474" y="212"/>
                </a:lnTo>
                <a:lnTo>
                  <a:pt x="505" y="202"/>
                </a:lnTo>
                <a:lnTo>
                  <a:pt x="535" y="194"/>
                </a:lnTo>
                <a:lnTo>
                  <a:pt x="562" y="185"/>
                </a:lnTo>
                <a:lnTo>
                  <a:pt x="587" y="177"/>
                </a:lnTo>
                <a:lnTo>
                  <a:pt x="610" y="167"/>
                </a:lnTo>
                <a:lnTo>
                  <a:pt x="633" y="160"/>
                </a:lnTo>
                <a:lnTo>
                  <a:pt x="652" y="150"/>
                </a:lnTo>
                <a:lnTo>
                  <a:pt x="672" y="142"/>
                </a:lnTo>
                <a:lnTo>
                  <a:pt x="679" y="139"/>
                </a:lnTo>
                <a:lnTo>
                  <a:pt x="687" y="135"/>
                </a:lnTo>
                <a:lnTo>
                  <a:pt x="702" y="125"/>
                </a:lnTo>
                <a:lnTo>
                  <a:pt x="716" y="117"/>
                </a:lnTo>
                <a:lnTo>
                  <a:pt x="729" y="110"/>
                </a:lnTo>
                <a:lnTo>
                  <a:pt x="743" y="102"/>
                </a:lnTo>
                <a:lnTo>
                  <a:pt x="756" y="94"/>
                </a:lnTo>
                <a:lnTo>
                  <a:pt x="768" y="89"/>
                </a:lnTo>
                <a:lnTo>
                  <a:pt x="777" y="81"/>
                </a:lnTo>
                <a:lnTo>
                  <a:pt x="789" y="75"/>
                </a:lnTo>
                <a:lnTo>
                  <a:pt x="798" y="70"/>
                </a:lnTo>
                <a:lnTo>
                  <a:pt x="806" y="64"/>
                </a:lnTo>
                <a:lnTo>
                  <a:pt x="814" y="58"/>
                </a:lnTo>
                <a:lnTo>
                  <a:pt x="821" y="52"/>
                </a:lnTo>
                <a:lnTo>
                  <a:pt x="827" y="46"/>
                </a:lnTo>
                <a:lnTo>
                  <a:pt x="831" y="41"/>
                </a:lnTo>
                <a:lnTo>
                  <a:pt x="835" y="35"/>
                </a:lnTo>
                <a:lnTo>
                  <a:pt x="839" y="29"/>
                </a:lnTo>
                <a:lnTo>
                  <a:pt x="842" y="23"/>
                </a:lnTo>
                <a:lnTo>
                  <a:pt x="848" y="18"/>
                </a:lnTo>
                <a:lnTo>
                  <a:pt x="856" y="14"/>
                </a:lnTo>
                <a:lnTo>
                  <a:pt x="862" y="8"/>
                </a:lnTo>
                <a:lnTo>
                  <a:pt x="871" y="4"/>
                </a:lnTo>
                <a:lnTo>
                  <a:pt x="879" y="2"/>
                </a:lnTo>
                <a:lnTo>
                  <a:pt x="887" y="0"/>
                </a:lnTo>
                <a:lnTo>
                  <a:pt x="896" y="0"/>
                </a:lnTo>
                <a:lnTo>
                  <a:pt x="898" y="0"/>
                </a:lnTo>
                <a:lnTo>
                  <a:pt x="902" y="0"/>
                </a:lnTo>
                <a:lnTo>
                  <a:pt x="906" y="2"/>
                </a:lnTo>
                <a:lnTo>
                  <a:pt x="911" y="4"/>
                </a:lnTo>
                <a:lnTo>
                  <a:pt x="917" y="8"/>
                </a:lnTo>
                <a:lnTo>
                  <a:pt x="923" y="12"/>
                </a:lnTo>
                <a:lnTo>
                  <a:pt x="931" y="16"/>
                </a:lnTo>
                <a:lnTo>
                  <a:pt x="938" y="22"/>
                </a:lnTo>
                <a:lnTo>
                  <a:pt x="946" y="27"/>
                </a:lnTo>
                <a:lnTo>
                  <a:pt x="956" y="35"/>
                </a:lnTo>
                <a:lnTo>
                  <a:pt x="965" y="41"/>
                </a:lnTo>
                <a:lnTo>
                  <a:pt x="977" y="50"/>
                </a:lnTo>
                <a:lnTo>
                  <a:pt x="986" y="58"/>
                </a:lnTo>
                <a:lnTo>
                  <a:pt x="998" y="68"/>
                </a:lnTo>
                <a:lnTo>
                  <a:pt x="1011" y="77"/>
                </a:lnTo>
                <a:lnTo>
                  <a:pt x="1023" y="89"/>
                </a:lnTo>
                <a:lnTo>
                  <a:pt x="1036" y="102"/>
                </a:lnTo>
                <a:lnTo>
                  <a:pt x="1048" y="116"/>
                </a:lnTo>
                <a:lnTo>
                  <a:pt x="1059" y="127"/>
                </a:lnTo>
                <a:lnTo>
                  <a:pt x="1069" y="139"/>
                </a:lnTo>
                <a:lnTo>
                  <a:pt x="1078" y="150"/>
                </a:lnTo>
                <a:lnTo>
                  <a:pt x="1086" y="160"/>
                </a:lnTo>
                <a:lnTo>
                  <a:pt x="1094" y="169"/>
                </a:lnTo>
                <a:lnTo>
                  <a:pt x="1102" y="179"/>
                </a:lnTo>
                <a:lnTo>
                  <a:pt x="1107" y="187"/>
                </a:lnTo>
                <a:lnTo>
                  <a:pt x="1113" y="194"/>
                </a:lnTo>
                <a:lnTo>
                  <a:pt x="1117" y="200"/>
                </a:lnTo>
                <a:lnTo>
                  <a:pt x="1121" y="206"/>
                </a:lnTo>
                <a:lnTo>
                  <a:pt x="1125" y="212"/>
                </a:lnTo>
                <a:lnTo>
                  <a:pt x="1126" y="215"/>
                </a:lnTo>
                <a:lnTo>
                  <a:pt x="1126" y="219"/>
                </a:lnTo>
                <a:lnTo>
                  <a:pt x="1128" y="223"/>
                </a:lnTo>
                <a:lnTo>
                  <a:pt x="1111" y="246"/>
                </a:lnTo>
                <a:lnTo>
                  <a:pt x="1094" y="267"/>
                </a:lnTo>
                <a:lnTo>
                  <a:pt x="1090" y="269"/>
                </a:lnTo>
                <a:lnTo>
                  <a:pt x="1088" y="271"/>
                </a:lnTo>
                <a:lnTo>
                  <a:pt x="1086" y="275"/>
                </a:lnTo>
                <a:lnTo>
                  <a:pt x="1082" y="279"/>
                </a:lnTo>
                <a:lnTo>
                  <a:pt x="1080" y="283"/>
                </a:lnTo>
                <a:lnTo>
                  <a:pt x="1077" y="288"/>
                </a:lnTo>
                <a:lnTo>
                  <a:pt x="1075" y="294"/>
                </a:lnTo>
                <a:lnTo>
                  <a:pt x="1071" y="302"/>
                </a:lnTo>
                <a:lnTo>
                  <a:pt x="1069" y="308"/>
                </a:lnTo>
                <a:lnTo>
                  <a:pt x="1065" y="315"/>
                </a:lnTo>
                <a:lnTo>
                  <a:pt x="1061" y="325"/>
                </a:lnTo>
                <a:lnTo>
                  <a:pt x="1057" y="334"/>
                </a:lnTo>
                <a:lnTo>
                  <a:pt x="1054" y="344"/>
                </a:lnTo>
                <a:lnTo>
                  <a:pt x="1050" y="354"/>
                </a:lnTo>
                <a:lnTo>
                  <a:pt x="1046" y="365"/>
                </a:lnTo>
                <a:lnTo>
                  <a:pt x="1042" y="377"/>
                </a:lnTo>
                <a:lnTo>
                  <a:pt x="1038" y="390"/>
                </a:lnTo>
                <a:lnTo>
                  <a:pt x="1034" y="403"/>
                </a:lnTo>
                <a:lnTo>
                  <a:pt x="1029" y="417"/>
                </a:lnTo>
                <a:lnTo>
                  <a:pt x="1025" y="432"/>
                </a:lnTo>
                <a:lnTo>
                  <a:pt x="1021" y="448"/>
                </a:lnTo>
                <a:lnTo>
                  <a:pt x="1015" y="463"/>
                </a:lnTo>
                <a:lnTo>
                  <a:pt x="1011" y="478"/>
                </a:lnTo>
                <a:lnTo>
                  <a:pt x="1006" y="496"/>
                </a:lnTo>
                <a:lnTo>
                  <a:pt x="1002" y="513"/>
                </a:lnTo>
                <a:lnTo>
                  <a:pt x="996" y="532"/>
                </a:lnTo>
                <a:lnTo>
                  <a:pt x="992" y="551"/>
                </a:lnTo>
                <a:lnTo>
                  <a:pt x="986" y="570"/>
                </a:lnTo>
                <a:lnTo>
                  <a:pt x="981" y="592"/>
                </a:lnTo>
                <a:lnTo>
                  <a:pt x="977" y="611"/>
                </a:lnTo>
                <a:lnTo>
                  <a:pt x="971" y="634"/>
                </a:lnTo>
                <a:lnTo>
                  <a:pt x="965" y="655"/>
                </a:lnTo>
                <a:lnTo>
                  <a:pt x="954" y="703"/>
                </a:lnTo>
                <a:lnTo>
                  <a:pt x="942" y="749"/>
                </a:lnTo>
                <a:lnTo>
                  <a:pt x="929" y="795"/>
                </a:lnTo>
                <a:lnTo>
                  <a:pt x="915" y="839"/>
                </a:lnTo>
                <a:lnTo>
                  <a:pt x="902" y="883"/>
                </a:lnTo>
                <a:lnTo>
                  <a:pt x="887" y="927"/>
                </a:lnTo>
                <a:lnTo>
                  <a:pt x="869" y="970"/>
                </a:lnTo>
                <a:lnTo>
                  <a:pt x="854" y="1012"/>
                </a:lnTo>
                <a:lnTo>
                  <a:pt x="837" y="1054"/>
                </a:lnTo>
                <a:lnTo>
                  <a:pt x="817" y="1094"/>
                </a:lnTo>
                <a:lnTo>
                  <a:pt x="800" y="1135"/>
                </a:lnTo>
                <a:lnTo>
                  <a:pt x="781" y="1173"/>
                </a:lnTo>
                <a:lnTo>
                  <a:pt x="760" y="1213"/>
                </a:lnTo>
                <a:lnTo>
                  <a:pt x="741" y="1250"/>
                </a:lnTo>
                <a:lnTo>
                  <a:pt x="720" y="1288"/>
                </a:lnTo>
                <a:lnTo>
                  <a:pt x="698" y="1325"/>
                </a:lnTo>
                <a:lnTo>
                  <a:pt x="677" y="1361"/>
                </a:lnTo>
                <a:lnTo>
                  <a:pt x="654" y="1398"/>
                </a:lnTo>
                <a:lnTo>
                  <a:pt x="631" y="1432"/>
                </a:lnTo>
                <a:lnTo>
                  <a:pt x="608" y="1467"/>
                </a:lnTo>
                <a:lnTo>
                  <a:pt x="583" y="1501"/>
                </a:lnTo>
                <a:lnTo>
                  <a:pt x="558" y="1536"/>
                </a:lnTo>
                <a:lnTo>
                  <a:pt x="531" y="1569"/>
                </a:lnTo>
                <a:lnTo>
                  <a:pt x="506" y="1603"/>
                </a:lnTo>
                <a:lnTo>
                  <a:pt x="478" y="1634"/>
                </a:lnTo>
                <a:lnTo>
                  <a:pt x="451" y="1666"/>
                </a:lnTo>
                <a:lnTo>
                  <a:pt x="422" y="1697"/>
                </a:lnTo>
                <a:lnTo>
                  <a:pt x="393" y="1728"/>
                </a:lnTo>
                <a:lnTo>
                  <a:pt x="363" y="1759"/>
                </a:lnTo>
                <a:lnTo>
                  <a:pt x="332" y="1789"/>
                </a:lnTo>
                <a:lnTo>
                  <a:pt x="301" y="1818"/>
                </a:lnTo>
                <a:lnTo>
                  <a:pt x="268" y="1847"/>
                </a:lnTo>
                <a:lnTo>
                  <a:pt x="253" y="1860"/>
                </a:lnTo>
                <a:lnTo>
                  <a:pt x="238" y="1874"/>
                </a:lnTo>
                <a:lnTo>
                  <a:pt x="222" y="1887"/>
                </a:lnTo>
                <a:lnTo>
                  <a:pt x="209" y="1899"/>
                </a:lnTo>
                <a:lnTo>
                  <a:pt x="196" y="1910"/>
                </a:lnTo>
                <a:lnTo>
                  <a:pt x="182" y="1922"/>
                </a:lnTo>
                <a:lnTo>
                  <a:pt x="169" y="1931"/>
                </a:lnTo>
                <a:lnTo>
                  <a:pt x="157" y="1943"/>
                </a:lnTo>
                <a:lnTo>
                  <a:pt x="144" y="1952"/>
                </a:lnTo>
                <a:lnTo>
                  <a:pt x="132" y="1960"/>
                </a:lnTo>
                <a:lnTo>
                  <a:pt x="123" y="1970"/>
                </a:lnTo>
                <a:lnTo>
                  <a:pt x="111" y="1977"/>
                </a:lnTo>
                <a:lnTo>
                  <a:pt x="101" y="1985"/>
                </a:lnTo>
                <a:lnTo>
                  <a:pt x="92" y="1991"/>
                </a:lnTo>
                <a:lnTo>
                  <a:pt x="84" y="1999"/>
                </a:lnTo>
                <a:lnTo>
                  <a:pt x="75" y="2004"/>
                </a:lnTo>
                <a:lnTo>
                  <a:pt x="67" y="2008"/>
                </a:lnTo>
                <a:lnTo>
                  <a:pt x="59" y="2014"/>
                </a:lnTo>
                <a:lnTo>
                  <a:pt x="53" y="2018"/>
                </a:lnTo>
                <a:lnTo>
                  <a:pt x="46" y="2022"/>
                </a:lnTo>
                <a:lnTo>
                  <a:pt x="40" y="2025"/>
                </a:lnTo>
                <a:lnTo>
                  <a:pt x="34" y="2027"/>
                </a:lnTo>
                <a:lnTo>
                  <a:pt x="29" y="2029"/>
                </a:lnTo>
                <a:lnTo>
                  <a:pt x="25" y="2031"/>
                </a:lnTo>
                <a:lnTo>
                  <a:pt x="21" y="2031"/>
                </a:lnTo>
                <a:lnTo>
                  <a:pt x="17" y="2033"/>
                </a:lnTo>
                <a:lnTo>
                  <a:pt x="13" y="2033"/>
                </a:lnTo>
                <a:lnTo>
                  <a:pt x="9" y="2031"/>
                </a:lnTo>
                <a:lnTo>
                  <a:pt x="7" y="2031"/>
                </a:lnTo>
                <a:lnTo>
                  <a:pt x="6" y="2029"/>
                </a:lnTo>
                <a:lnTo>
                  <a:pt x="4" y="2027"/>
                </a:lnTo>
                <a:lnTo>
                  <a:pt x="2" y="2025"/>
                </a:lnTo>
                <a:lnTo>
                  <a:pt x="2" y="2022"/>
                </a:lnTo>
                <a:lnTo>
                  <a:pt x="0" y="2016"/>
                </a:lnTo>
                <a:lnTo>
                  <a:pt x="2" y="2010"/>
                </a:lnTo>
                <a:lnTo>
                  <a:pt x="6" y="2002"/>
                </a:lnTo>
                <a:lnTo>
                  <a:pt x="9" y="1995"/>
                </a:lnTo>
                <a:lnTo>
                  <a:pt x="13" y="1985"/>
                </a:lnTo>
                <a:lnTo>
                  <a:pt x="21" y="1974"/>
                </a:lnTo>
                <a:lnTo>
                  <a:pt x="29" y="1962"/>
                </a:lnTo>
                <a:lnTo>
                  <a:pt x="38" y="1949"/>
                </a:lnTo>
                <a:lnTo>
                  <a:pt x="50" y="1935"/>
                </a:lnTo>
                <a:lnTo>
                  <a:pt x="61" y="1920"/>
                </a:lnTo>
                <a:lnTo>
                  <a:pt x="75" y="1904"/>
                </a:lnTo>
                <a:lnTo>
                  <a:pt x="90" y="1887"/>
                </a:lnTo>
                <a:lnTo>
                  <a:pt x="105" y="1870"/>
                </a:lnTo>
                <a:lnTo>
                  <a:pt x="123" y="1851"/>
                </a:lnTo>
                <a:lnTo>
                  <a:pt x="142" y="1832"/>
                </a:lnTo>
                <a:lnTo>
                  <a:pt x="161" y="1810"/>
                </a:lnTo>
                <a:lnTo>
                  <a:pt x="180" y="1789"/>
                </a:lnTo>
                <a:lnTo>
                  <a:pt x="201" y="1768"/>
                </a:lnTo>
                <a:lnTo>
                  <a:pt x="222" y="1743"/>
                </a:lnTo>
                <a:lnTo>
                  <a:pt x="244" y="1720"/>
                </a:lnTo>
                <a:lnTo>
                  <a:pt x="265" y="1693"/>
                </a:lnTo>
                <a:lnTo>
                  <a:pt x="286" y="1666"/>
                </a:lnTo>
                <a:lnTo>
                  <a:pt x="309" y="1638"/>
                </a:lnTo>
                <a:lnTo>
                  <a:pt x="332" y="1609"/>
                </a:lnTo>
                <a:lnTo>
                  <a:pt x="355" y="1576"/>
                </a:lnTo>
                <a:lnTo>
                  <a:pt x="378" y="1544"/>
                </a:lnTo>
                <a:lnTo>
                  <a:pt x="401" y="1509"/>
                </a:lnTo>
                <a:lnTo>
                  <a:pt x="426" y="1473"/>
                </a:lnTo>
                <a:lnTo>
                  <a:pt x="451" y="1436"/>
                </a:lnTo>
                <a:lnTo>
                  <a:pt x="476" y="1396"/>
                </a:lnTo>
                <a:lnTo>
                  <a:pt x="501" y="1356"/>
                </a:lnTo>
                <a:lnTo>
                  <a:pt x="524" y="1313"/>
                </a:lnTo>
                <a:lnTo>
                  <a:pt x="547" y="1271"/>
                </a:lnTo>
                <a:lnTo>
                  <a:pt x="570" y="1229"/>
                </a:lnTo>
                <a:lnTo>
                  <a:pt x="591" y="1187"/>
                </a:lnTo>
                <a:lnTo>
                  <a:pt x="612" y="1144"/>
                </a:lnTo>
                <a:lnTo>
                  <a:pt x="633" y="1102"/>
                </a:lnTo>
                <a:lnTo>
                  <a:pt x="652" y="1060"/>
                </a:lnTo>
                <a:lnTo>
                  <a:pt x="672" y="1018"/>
                </a:lnTo>
                <a:lnTo>
                  <a:pt x="691" y="975"/>
                </a:lnTo>
                <a:lnTo>
                  <a:pt x="708" y="931"/>
                </a:lnTo>
                <a:lnTo>
                  <a:pt x="723" y="889"/>
                </a:lnTo>
                <a:lnTo>
                  <a:pt x="739" y="847"/>
                </a:lnTo>
                <a:lnTo>
                  <a:pt x="754" y="803"/>
                </a:lnTo>
                <a:lnTo>
                  <a:pt x="768" y="759"/>
                </a:lnTo>
                <a:lnTo>
                  <a:pt x="779" y="714"/>
                </a:lnTo>
                <a:lnTo>
                  <a:pt x="791" y="67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49"/>
          <p:cNvSpPr/>
          <p:nvPr/>
        </p:nvSpPr>
        <p:spPr>
          <a:xfrm>
            <a:off x="6637320" y="3732120"/>
            <a:ext cx="1179360" cy="1222560"/>
          </a:xfrm>
          <a:custGeom>
            <a:avLst/>
            <a:gdLst/>
            <a:ahLst/>
            <a:rect l="l" t="t" r="r" b="b"/>
            <a:pathLst>
              <a:path w="1486" h="1539">
                <a:moveTo>
                  <a:pt x="998" y="1533"/>
                </a:moveTo>
                <a:lnTo>
                  <a:pt x="971" y="1527"/>
                </a:lnTo>
                <a:lnTo>
                  <a:pt x="948" y="1522"/>
                </a:lnTo>
                <a:lnTo>
                  <a:pt x="925" y="1514"/>
                </a:lnTo>
                <a:lnTo>
                  <a:pt x="904" y="1508"/>
                </a:lnTo>
                <a:lnTo>
                  <a:pt x="883" y="1501"/>
                </a:lnTo>
                <a:lnTo>
                  <a:pt x="875" y="1497"/>
                </a:lnTo>
                <a:lnTo>
                  <a:pt x="866" y="1493"/>
                </a:lnTo>
                <a:lnTo>
                  <a:pt x="858" y="1489"/>
                </a:lnTo>
                <a:lnTo>
                  <a:pt x="850" y="1483"/>
                </a:lnTo>
                <a:lnTo>
                  <a:pt x="843" y="1478"/>
                </a:lnTo>
                <a:lnTo>
                  <a:pt x="835" y="1474"/>
                </a:lnTo>
                <a:lnTo>
                  <a:pt x="833" y="1470"/>
                </a:lnTo>
                <a:lnTo>
                  <a:pt x="829" y="1466"/>
                </a:lnTo>
                <a:lnTo>
                  <a:pt x="825" y="1462"/>
                </a:lnTo>
                <a:lnTo>
                  <a:pt x="819" y="1456"/>
                </a:lnTo>
                <a:lnTo>
                  <a:pt x="816" y="1453"/>
                </a:lnTo>
                <a:lnTo>
                  <a:pt x="812" y="1447"/>
                </a:lnTo>
                <a:lnTo>
                  <a:pt x="806" y="1441"/>
                </a:lnTo>
                <a:lnTo>
                  <a:pt x="800" y="1433"/>
                </a:lnTo>
                <a:lnTo>
                  <a:pt x="795" y="1426"/>
                </a:lnTo>
                <a:lnTo>
                  <a:pt x="789" y="1418"/>
                </a:lnTo>
                <a:lnTo>
                  <a:pt x="783" y="1410"/>
                </a:lnTo>
                <a:lnTo>
                  <a:pt x="777" y="1401"/>
                </a:lnTo>
                <a:lnTo>
                  <a:pt x="770" y="1391"/>
                </a:lnTo>
                <a:lnTo>
                  <a:pt x="764" y="1382"/>
                </a:lnTo>
                <a:lnTo>
                  <a:pt x="756" y="1370"/>
                </a:lnTo>
                <a:lnTo>
                  <a:pt x="748" y="1359"/>
                </a:lnTo>
                <a:lnTo>
                  <a:pt x="741" y="1347"/>
                </a:lnTo>
                <a:lnTo>
                  <a:pt x="733" y="1336"/>
                </a:lnTo>
                <a:lnTo>
                  <a:pt x="725" y="1322"/>
                </a:lnTo>
                <a:lnTo>
                  <a:pt x="718" y="1309"/>
                </a:lnTo>
                <a:lnTo>
                  <a:pt x="710" y="1295"/>
                </a:lnTo>
                <a:lnTo>
                  <a:pt x="700" y="1280"/>
                </a:lnTo>
                <a:lnTo>
                  <a:pt x="691" y="1265"/>
                </a:lnTo>
                <a:lnTo>
                  <a:pt x="683" y="1249"/>
                </a:lnTo>
                <a:lnTo>
                  <a:pt x="674" y="1232"/>
                </a:lnTo>
                <a:lnTo>
                  <a:pt x="664" y="1217"/>
                </a:lnTo>
                <a:lnTo>
                  <a:pt x="654" y="1197"/>
                </a:lnTo>
                <a:lnTo>
                  <a:pt x="645" y="1180"/>
                </a:lnTo>
                <a:lnTo>
                  <a:pt x="635" y="1161"/>
                </a:lnTo>
                <a:lnTo>
                  <a:pt x="624" y="1142"/>
                </a:lnTo>
                <a:lnTo>
                  <a:pt x="614" y="1121"/>
                </a:lnTo>
                <a:lnTo>
                  <a:pt x="603" y="1101"/>
                </a:lnTo>
                <a:lnTo>
                  <a:pt x="593" y="1080"/>
                </a:lnTo>
                <a:lnTo>
                  <a:pt x="581" y="1059"/>
                </a:lnTo>
                <a:lnTo>
                  <a:pt x="568" y="1038"/>
                </a:lnTo>
                <a:lnTo>
                  <a:pt x="557" y="1015"/>
                </a:lnTo>
                <a:lnTo>
                  <a:pt x="543" y="990"/>
                </a:lnTo>
                <a:lnTo>
                  <a:pt x="530" y="965"/>
                </a:lnTo>
                <a:lnTo>
                  <a:pt x="516" y="940"/>
                </a:lnTo>
                <a:lnTo>
                  <a:pt x="501" y="913"/>
                </a:lnTo>
                <a:lnTo>
                  <a:pt x="485" y="886"/>
                </a:lnTo>
                <a:lnTo>
                  <a:pt x="470" y="858"/>
                </a:lnTo>
                <a:lnTo>
                  <a:pt x="455" y="829"/>
                </a:lnTo>
                <a:lnTo>
                  <a:pt x="437" y="798"/>
                </a:lnTo>
                <a:lnTo>
                  <a:pt x="420" y="767"/>
                </a:lnTo>
                <a:lnTo>
                  <a:pt x="403" y="735"/>
                </a:lnTo>
                <a:lnTo>
                  <a:pt x="384" y="702"/>
                </a:lnTo>
                <a:lnTo>
                  <a:pt x="366" y="668"/>
                </a:lnTo>
                <a:lnTo>
                  <a:pt x="347" y="633"/>
                </a:lnTo>
                <a:lnTo>
                  <a:pt x="326" y="597"/>
                </a:lnTo>
                <a:lnTo>
                  <a:pt x="307" y="560"/>
                </a:lnTo>
                <a:lnTo>
                  <a:pt x="286" y="522"/>
                </a:lnTo>
                <a:lnTo>
                  <a:pt x="265" y="483"/>
                </a:lnTo>
                <a:lnTo>
                  <a:pt x="244" y="445"/>
                </a:lnTo>
                <a:lnTo>
                  <a:pt x="221" y="403"/>
                </a:lnTo>
                <a:lnTo>
                  <a:pt x="199" y="362"/>
                </a:lnTo>
                <a:lnTo>
                  <a:pt x="175" y="320"/>
                </a:lnTo>
                <a:lnTo>
                  <a:pt x="151" y="276"/>
                </a:lnTo>
                <a:lnTo>
                  <a:pt x="128" y="232"/>
                </a:lnTo>
                <a:lnTo>
                  <a:pt x="104" y="188"/>
                </a:lnTo>
                <a:lnTo>
                  <a:pt x="79" y="142"/>
                </a:lnTo>
                <a:lnTo>
                  <a:pt x="52" y="96"/>
                </a:lnTo>
                <a:lnTo>
                  <a:pt x="27" y="48"/>
                </a:lnTo>
                <a:lnTo>
                  <a:pt x="0" y="0"/>
                </a:lnTo>
                <a:lnTo>
                  <a:pt x="13" y="0"/>
                </a:lnTo>
                <a:lnTo>
                  <a:pt x="29" y="2"/>
                </a:lnTo>
                <a:lnTo>
                  <a:pt x="44" y="3"/>
                </a:lnTo>
                <a:lnTo>
                  <a:pt x="59" y="7"/>
                </a:lnTo>
                <a:lnTo>
                  <a:pt x="77" y="13"/>
                </a:lnTo>
                <a:lnTo>
                  <a:pt x="92" y="17"/>
                </a:lnTo>
                <a:lnTo>
                  <a:pt x="128" y="28"/>
                </a:lnTo>
                <a:lnTo>
                  <a:pt x="134" y="34"/>
                </a:lnTo>
                <a:lnTo>
                  <a:pt x="142" y="42"/>
                </a:lnTo>
                <a:lnTo>
                  <a:pt x="150" y="50"/>
                </a:lnTo>
                <a:lnTo>
                  <a:pt x="157" y="59"/>
                </a:lnTo>
                <a:lnTo>
                  <a:pt x="167" y="69"/>
                </a:lnTo>
                <a:lnTo>
                  <a:pt x="176" y="82"/>
                </a:lnTo>
                <a:lnTo>
                  <a:pt x="186" y="94"/>
                </a:lnTo>
                <a:lnTo>
                  <a:pt x="198" y="107"/>
                </a:lnTo>
                <a:lnTo>
                  <a:pt x="209" y="122"/>
                </a:lnTo>
                <a:lnTo>
                  <a:pt x="221" y="140"/>
                </a:lnTo>
                <a:lnTo>
                  <a:pt x="232" y="157"/>
                </a:lnTo>
                <a:lnTo>
                  <a:pt x="246" y="176"/>
                </a:lnTo>
                <a:lnTo>
                  <a:pt x="259" y="197"/>
                </a:lnTo>
                <a:lnTo>
                  <a:pt x="272" y="218"/>
                </a:lnTo>
                <a:lnTo>
                  <a:pt x="288" y="241"/>
                </a:lnTo>
                <a:lnTo>
                  <a:pt x="301" y="266"/>
                </a:lnTo>
                <a:lnTo>
                  <a:pt x="328" y="316"/>
                </a:lnTo>
                <a:lnTo>
                  <a:pt x="355" y="368"/>
                </a:lnTo>
                <a:lnTo>
                  <a:pt x="384" y="418"/>
                </a:lnTo>
                <a:lnTo>
                  <a:pt x="413" y="468"/>
                </a:lnTo>
                <a:lnTo>
                  <a:pt x="443" y="518"/>
                </a:lnTo>
                <a:lnTo>
                  <a:pt x="474" y="568"/>
                </a:lnTo>
                <a:lnTo>
                  <a:pt x="533" y="670"/>
                </a:lnTo>
                <a:lnTo>
                  <a:pt x="549" y="693"/>
                </a:lnTo>
                <a:lnTo>
                  <a:pt x="564" y="718"/>
                </a:lnTo>
                <a:lnTo>
                  <a:pt x="580" y="741"/>
                </a:lnTo>
                <a:lnTo>
                  <a:pt x="597" y="764"/>
                </a:lnTo>
                <a:lnTo>
                  <a:pt x="612" y="787"/>
                </a:lnTo>
                <a:lnTo>
                  <a:pt x="629" y="808"/>
                </a:lnTo>
                <a:lnTo>
                  <a:pt x="664" y="850"/>
                </a:lnTo>
                <a:lnTo>
                  <a:pt x="700" y="892"/>
                </a:lnTo>
                <a:lnTo>
                  <a:pt x="737" y="932"/>
                </a:lnTo>
                <a:lnTo>
                  <a:pt x="773" y="971"/>
                </a:lnTo>
                <a:lnTo>
                  <a:pt x="812" y="1011"/>
                </a:lnTo>
                <a:lnTo>
                  <a:pt x="831" y="1030"/>
                </a:lnTo>
                <a:lnTo>
                  <a:pt x="852" y="1050"/>
                </a:lnTo>
                <a:lnTo>
                  <a:pt x="873" y="1069"/>
                </a:lnTo>
                <a:lnTo>
                  <a:pt x="896" y="1086"/>
                </a:lnTo>
                <a:lnTo>
                  <a:pt x="919" y="1105"/>
                </a:lnTo>
                <a:lnTo>
                  <a:pt x="944" y="1123"/>
                </a:lnTo>
                <a:lnTo>
                  <a:pt x="969" y="1140"/>
                </a:lnTo>
                <a:lnTo>
                  <a:pt x="994" y="1157"/>
                </a:lnTo>
                <a:lnTo>
                  <a:pt x="1021" y="1174"/>
                </a:lnTo>
                <a:lnTo>
                  <a:pt x="1048" y="1192"/>
                </a:lnTo>
                <a:lnTo>
                  <a:pt x="1077" y="1209"/>
                </a:lnTo>
                <a:lnTo>
                  <a:pt x="1105" y="1226"/>
                </a:lnTo>
                <a:lnTo>
                  <a:pt x="1136" y="1243"/>
                </a:lnTo>
                <a:lnTo>
                  <a:pt x="1167" y="1261"/>
                </a:lnTo>
                <a:lnTo>
                  <a:pt x="1198" y="1278"/>
                </a:lnTo>
                <a:lnTo>
                  <a:pt x="1230" y="1295"/>
                </a:lnTo>
                <a:lnTo>
                  <a:pt x="1261" y="1311"/>
                </a:lnTo>
                <a:lnTo>
                  <a:pt x="1276" y="1318"/>
                </a:lnTo>
                <a:lnTo>
                  <a:pt x="1292" y="1326"/>
                </a:lnTo>
                <a:lnTo>
                  <a:pt x="1305" y="1334"/>
                </a:lnTo>
                <a:lnTo>
                  <a:pt x="1319" y="1341"/>
                </a:lnTo>
                <a:lnTo>
                  <a:pt x="1332" y="1349"/>
                </a:lnTo>
                <a:lnTo>
                  <a:pt x="1343" y="1357"/>
                </a:lnTo>
                <a:lnTo>
                  <a:pt x="1357" y="1362"/>
                </a:lnTo>
                <a:lnTo>
                  <a:pt x="1368" y="1370"/>
                </a:lnTo>
                <a:lnTo>
                  <a:pt x="1380" y="1376"/>
                </a:lnTo>
                <a:lnTo>
                  <a:pt x="1390" y="1382"/>
                </a:lnTo>
                <a:lnTo>
                  <a:pt x="1399" y="1387"/>
                </a:lnTo>
                <a:lnTo>
                  <a:pt x="1409" y="1393"/>
                </a:lnTo>
                <a:lnTo>
                  <a:pt x="1418" y="1399"/>
                </a:lnTo>
                <a:lnTo>
                  <a:pt x="1426" y="1405"/>
                </a:lnTo>
                <a:lnTo>
                  <a:pt x="1434" y="1410"/>
                </a:lnTo>
                <a:lnTo>
                  <a:pt x="1441" y="1414"/>
                </a:lnTo>
                <a:lnTo>
                  <a:pt x="1449" y="1420"/>
                </a:lnTo>
                <a:lnTo>
                  <a:pt x="1455" y="1424"/>
                </a:lnTo>
                <a:lnTo>
                  <a:pt x="1461" y="1428"/>
                </a:lnTo>
                <a:lnTo>
                  <a:pt x="1466" y="1432"/>
                </a:lnTo>
                <a:lnTo>
                  <a:pt x="1470" y="1435"/>
                </a:lnTo>
                <a:lnTo>
                  <a:pt x="1474" y="1439"/>
                </a:lnTo>
                <a:lnTo>
                  <a:pt x="1478" y="1443"/>
                </a:lnTo>
                <a:lnTo>
                  <a:pt x="1480" y="1445"/>
                </a:lnTo>
                <a:lnTo>
                  <a:pt x="1484" y="1449"/>
                </a:lnTo>
                <a:lnTo>
                  <a:pt x="1484" y="1451"/>
                </a:lnTo>
                <a:lnTo>
                  <a:pt x="1486" y="1453"/>
                </a:lnTo>
                <a:lnTo>
                  <a:pt x="1486" y="1455"/>
                </a:lnTo>
                <a:lnTo>
                  <a:pt x="1486" y="1456"/>
                </a:lnTo>
                <a:lnTo>
                  <a:pt x="1486" y="1458"/>
                </a:lnTo>
                <a:lnTo>
                  <a:pt x="1482" y="1464"/>
                </a:lnTo>
                <a:lnTo>
                  <a:pt x="1478" y="1468"/>
                </a:lnTo>
                <a:lnTo>
                  <a:pt x="1472" y="1474"/>
                </a:lnTo>
                <a:lnTo>
                  <a:pt x="1466" y="1478"/>
                </a:lnTo>
                <a:lnTo>
                  <a:pt x="1457" y="1481"/>
                </a:lnTo>
                <a:lnTo>
                  <a:pt x="1449" y="1485"/>
                </a:lnTo>
                <a:lnTo>
                  <a:pt x="1438" y="1489"/>
                </a:lnTo>
                <a:lnTo>
                  <a:pt x="1426" y="1493"/>
                </a:lnTo>
                <a:lnTo>
                  <a:pt x="1413" y="1497"/>
                </a:lnTo>
                <a:lnTo>
                  <a:pt x="1399" y="1501"/>
                </a:lnTo>
                <a:lnTo>
                  <a:pt x="1382" y="1503"/>
                </a:lnTo>
                <a:lnTo>
                  <a:pt x="1367" y="1506"/>
                </a:lnTo>
                <a:lnTo>
                  <a:pt x="1347" y="1508"/>
                </a:lnTo>
                <a:lnTo>
                  <a:pt x="1330" y="1512"/>
                </a:lnTo>
                <a:lnTo>
                  <a:pt x="1309" y="1514"/>
                </a:lnTo>
                <a:lnTo>
                  <a:pt x="1288" y="1518"/>
                </a:lnTo>
                <a:lnTo>
                  <a:pt x="1265" y="1520"/>
                </a:lnTo>
                <a:lnTo>
                  <a:pt x="1242" y="1524"/>
                </a:lnTo>
                <a:lnTo>
                  <a:pt x="1219" y="1526"/>
                </a:lnTo>
                <a:lnTo>
                  <a:pt x="1198" y="1527"/>
                </a:lnTo>
                <a:lnTo>
                  <a:pt x="1178" y="1531"/>
                </a:lnTo>
                <a:lnTo>
                  <a:pt x="1157" y="1533"/>
                </a:lnTo>
                <a:lnTo>
                  <a:pt x="1140" y="1535"/>
                </a:lnTo>
                <a:lnTo>
                  <a:pt x="1121" y="1537"/>
                </a:lnTo>
                <a:lnTo>
                  <a:pt x="1104" y="1537"/>
                </a:lnTo>
                <a:lnTo>
                  <a:pt x="1086" y="1539"/>
                </a:lnTo>
                <a:lnTo>
                  <a:pt x="1071" y="1539"/>
                </a:lnTo>
                <a:lnTo>
                  <a:pt x="1054" y="1539"/>
                </a:lnTo>
                <a:lnTo>
                  <a:pt x="1038" y="1537"/>
                </a:lnTo>
                <a:lnTo>
                  <a:pt x="1025" y="1537"/>
                </a:lnTo>
                <a:lnTo>
                  <a:pt x="1011" y="1535"/>
                </a:lnTo>
                <a:lnTo>
                  <a:pt x="998" y="153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50"/>
          <p:cNvSpPr/>
          <p:nvPr/>
        </p:nvSpPr>
        <p:spPr>
          <a:xfrm>
            <a:off x="5548320" y="3602160"/>
            <a:ext cx="941400" cy="388800"/>
          </a:xfrm>
          <a:custGeom>
            <a:avLst/>
            <a:gdLst/>
            <a:ahLst/>
            <a:rect l="l" t="t" r="r" b="b"/>
            <a:pathLst>
              <a:path w="1187" h="491">
                <a:moveTo>
                  <a:pt x="1187" y="0"/>
                </a:moveTo>
                <a:lnTo>
                  <a:pt x="1187" y="90"/>
                </a:lnTo>
                <a:lnTo>
                  <a:pt x="1150" y="101"/>
                </a:lnTo>
                <a:lnTo>
                  <a:pt x="1114" y="115"/>
                </a:lnTo>
                <a:lnTo>
                  <a:pt x="1077" y="126"/>
                </a:lnTo>
                <a:lnTo>
                  <a:pt x="1041" y="138"/>
                </a:lnTo>
                <a:lnTo>
                  <a:pt x="1008" y="151"/>
                </a:lnTo>
                <a:lnTo>
                  <a:pt x="974" y="163"/>
                </a:lnTo>
                <a:lnTo>
                  <a:pt x="941" y="174"/>
                </a:lnTo>
                <a:lnTo>
                  <a:pt x="908" y="184"/>
                </a:lnTo>
                <a:lnTo>
                  <a:pt x="878" y="195"/>
                </a:lnTo>
                <a:lnTo>
                  <a:pt x="847" y="207"/>
                </a:lnTo>
                <a:lnTo>
                  <a:pt x="818" y="216"/>
                </a:lnTo>
                <a:lnTo>
                  <a:pt x="789" y="228"/>
                </a:lnTo>
                <a:lnTo>
                  <a:pt x="761" y="238"/>
                </a:lnTo>
                <a:lnTo>
                  <a:pt x="734" y="247"/>
                </a:lnTo>
                <a:lnTo>
                  <a:pt x="709" y="257"/>
                </a:lnTo>
                <a:lnTo>
                  <a:pt x="682" y="266"/>
                </a:lnTo>
                <a:lnTo>
                  <a:pt x="659" y="276"/>
                </a:lnTo>
                <a:lnTo>
                  <a:pt x="634" y="286"/>
                </a:lnTo>
                <a:lnTo>
                  <a:pt x="611" y="293"/>
                </a:lnTo>
                <a:lnTo>
                  <a:pt x="590" y="303"/>
                </a:lnTo>
                <a:lnTo>
                  <a:pt x="567" y="311"/>
                </a:lnTo>
                <a:lnTo>
                  <a:pt x="547" y="318"/>
                </a:lnTo>
                <a:lnTo>
                  <a:pt x="528" y="326"/>
                </a:lnTo>
                <a:lnTo>
                  <a:pt x="509" y="334"/>
                </a:lnTo>
                <a:lnTo>
                  <a:pt x="490" y="341"/>
                </a:lnTo>
                <a:lnTo>
                  <a:pt x="473" y="349"/>
                </a:lnTo>
                <a:lnTo>
                  <a:pt x="457" y="355"/>
                </a:lnTo>
                <a:lnTo>
                  <a:pt x="442" y="362"/>
                </a:lnTo>
                <a:lnTo>
                  <a:pt x="427" y="368"/>
                </a:lnTo>
                <a:lnTo>
                  <a:pt x="413" y="376"/>
                </a:lnTo>
                <a:lnTo>
                  <a:pt x="400" y="382"/>
                </a:lnTo>
                <a:lnTo>
                  <a:pt x="386" y="387"/>
                </a:lnTo>
                <a:lnTo>
                  <a:pt x="363" y="401"/>
                </a:lnTo>
                <a:lnTo>
                  <a:pt x="342" y="412"/>
                </a:lnTo>
                <a:lnTo>
                  <a:pt x="321" y="424"/>
                </a:lnTo>
                <a:lnTo>
                  <a:pt x="302" y="435"/>
                </a:lnTo>
                <a:lnTo>
                  <a:pt x="283" y="445"/>
                </a:lnTo>
                <a:lnTo>
                  <a:pt x="267" y="453"/>
                </a:lnTo>
                <a:lnTo>
                  <a:pt x="250" y="460"/>
                </a:lnTo>
                <a:lnTo>
                  <a:pt x="237" y="468"/>
                </a:lnTo>
                <a:lnTo>
                  <a:pt x="223" y="474"/>
                </a:lnTo>
                <a:lnTo>
                  <a:pt x="210" y="478"/>
                </a:lnTo>
                <a:lnTo>
                  <a:pt x="198" y="481"/>
                </a:lnTo>
                <a:lnTo>
                  <a:pt x="187" y="485"/>
                </a:lnTo>
                <a:lnTo>
                  <a:pt x="177" y="487"/>
                </a:lnTo>
                <a:lnTo>
                  <a:pt x="169" y="489"/>
                </a:lnTo>
                <a:lnTo>
                  <a:pt x="162" y="491"/>
                </a:lnTo>
                <a:lnTo>
                  <a:pt x="154" y="491"/>
                </a:lnTo>
                <a:lnTo>
                  <a:pt x="148" y="491"/>
                </a:lnTo>
                <a:lnTo>
                  <a:pt x="141" y="489"/>
                </a:lnTo>
                <a:lnTo>
                  <a:pt x="133" y="487"/>
                </a:lnTo>
                <a:lnTo>
                  <a:pt x="127" y="483"/>
                </a:lnTo>
                <a:lnTo>
                  <a:pt x="119" y="478"/>
                </a:lnTo>
                <a:lnTo>
                  <a:pt x="112" y="474"/>
                </a:lnTo>
                <a:lnTo>
                  <a:pt x="104" y="466"/>
                </a:lnTo>
                <a:lnTo>
                  <a:pt x="96" y="460"/>
                </a:lnTo>
                <a:lnTo>
                  <a:pt x="89" y="451"/>
                </a:lnTo>
                <a:lnTo>
                  <a:pt x="81" y="443"/>
                </a:lnTo>
                <a:lnTo>
                  <a:pt x="73" y="433"/>
                </a:lnTo>
                <a:lnTo>
                  <a:pt x="66" y="422"/>
                </a:lnTo>
                <a:lnTo>
                  <a:pt x="58" y="410"/>
                </a:lnTo>
                <a:lnTo>
                  <a:pt x="52" y="399"/>
                </a:lnTo>
                <a:lnTo>
                  <a:pt x="45" y="385"/>
                </a:lnTo>
                <a:lnTo>
                  <a:pt x="39" y="372"/>
                </a:lnTo>
                <a:lnTo>
                  <a:pt x="33" y="359"/>
                </a:lnTo>
                <a:lnTo>
                  <a:pt x="27" y="345"/>
                </a:lnTo>
                <a:lnTo>
                  <a:pt x="22" y="334"/>
                </a:lnTo>
                <a:lnTo>
                  <a:pt x="18" y="322"/>
                </a:lnTo>
                <a:lnTo>
                  <a:pt x="14" y="311"/>
                </a:lnTo>
                <a:lnTo>
                  <a:pt x="10" y="299"/>
                </a:lnTo>
                <a:lnTo>
                  <a:pt x="6" y="289"/>
                </a:lnTo>
                <a:lnTo>
                  <a:pt x="4" y="280"/>
                </a:lnTo>
                <a:lnTo>
                  <a:pt x="2" y="272"/>
                </a:lnTo>
                <a:lnTo>
                  <a:pt x="0" y="264"/>
                </a:lnTo>
                <a:lnTo>
                  <a:pt x="0" y="257"/>
                </a:lnTo>
                <a:lnTo>
                  <a:pt x="0" y="249"/>
                </a:lnTo>
                <a:lnTo>
                  <a:pt x="0" y="241"/>
                </a:lnTo>
                <a:lnTo>
                  <a:pt x="0" y="236"/>
                </a:lnTo>
                <a:lnTo>
                  <a:pt x="2" y="230"/>
                </a:lnTo>
                <a:lnTo>
                  <a:pt x="4" y="224"/>
                </a:lnTo>
                <a:lnTo>
                  <a:pt x="8" y="218"/>
                </a:lnTo>
                <a:lnTo>
                  <a:pt x="14" y="215"/>
                </a:lnTo>
                <a:lnTo>
                  <a:pt x="22" y="213"/>
                </a:lnTo>
                <a:lnTo>
                  <a:pt x="29" y="213"/>
                </a:lnTo>
                <a:lnTo>
                  <a:pt x="39" y="213"/>
                </a:lnTo>
                <a:lnTo>
                  <a:pt x="50" y="215"/>
                </a:lnTo>
                <a:lnTo>
                  <a:pt x="60" y="218"/>
                </a:lnTo>
                <a:lnTo>
                  <a:pt x="73" y="224"/>
                </a:lnTo>
                <a:lnTo>
                  <a:pt x="87" y="228"/>
                </a:lnTo>
                <a:lnTo>
                  <a:pt x="98" y="234"/>
                </a:lnTo>
                <a:lnTo>
                  <a:pt x="108" y="239"/>
                </a:lnTo>
                <a:lnTo>
                  <a:pt x="119" y="243"/>
                </a:lnTo>
                <a:lnTo>
                  <a:pt x="131" y="247"/>
                </a:lnTo>
                <a:lnTo>
                  <a:pt x="142" y="251"/>
                </a:lnTo>
                <a:lnTo>
                  <a:pt x="154" y="253"/>
                </a:lnTo>
                <a:lnTo>
                  <a:pt x="166" y="253"/>
                </a:lnTo>
                <a:lnTo>
                  <a:pt x="169" y="253"/>
                </a:lnTo>
                <a:lnTo>
                  <a:pt x="173" y="251"/>
                </a:lnTo>
                <a:lnTo>
                  <a:pt x="181" y="251"/>
                </a:lnTo>
                <a:lnTo>
                  <a:pt x="189" y="249"/>
                </a:lnTo>
                <a:lnTo>
                  <a:pt x="200" y="247"/>
                </a:lnTo>
                <a:lnTo>
                  <a:pt x="212" y="243"/>
                </a:lnTo>
                <a:lnTo>
                  <a:pt x="227" y="241"/>
                </a:lnTo>
                <a:lnTo>
                  <a:pt x="242" y="238"/>
                </a:lnTo>
                <a:lnTo>
                  <a:pt x="260" y="232"/>
                </a:lnTo>
                <a:lnTo>
                  <a:pt x="281" y="228"/>
                </a:lnTo>
                <a:lnTo>
                  <a:pt x="302" y="222"/>
                </a:lnTo>
                <a:lnTo>
                  <a:pt x="325" y="216"/>
                </a:lnTo>
                <a:lnTo>
                  <a:pt x="350" y="211"/>
                </a:lnTo>
                <a:lnTo>
                  <a:pt x="377" y="203"/>
                </a:lnTo>
                <a:lnTo>
                  <a:pt x="407" y="197"/>
                </a:lnTo>
                <a:lnTo>
                  <a:pt x="438" y="190"/>
                </a:lnTo>
                <a:lnTo>
                  <a:pt x="471" y="180"/>
                </a:lnTo>
                <a:lnTo>
                  <a:pt x="505" y="172"/>
                </a:lnTo>
                <a:lnTo>
                  <a:pt x="542" y="163"/>
                </a:lnTo>
                <a:lnTo>
                  <a:pt x="580" y="153"/>
                </a:lnTo>
                <a:lnTo>
                  <a:pt x="620" y="144"/>
                </a:lnTo>
                <a:lnTo>
                  <a:pt x="663" y="132"/>
                </a:lnTo>
                <a:lnTo>
                  <a:pt x="707" y="120"/>
                </a:lnTo>
                <a:lnTo>
                  <a:pt x="753" y="109"/>
                </a:lnTo>
                <a:lnTo>
                  <a:pt x="799" y="97"/>
                </a:lnTo>
                <a:lnTo>
                  <a:pt x="849" y="86"/>
                </a:lnTo>
                <a:lnTo>
                  <a:pt x="901" y="73"/>
                </a:lnTo>
                <a:lnTo>
                  <a:pt x="954" y="59"/>
                </a:lnTo>
                <a:lnTo>
                  <a:pt x="1010" y="44"/>
                </a:lnTo>
                <a:lnTo>
                  <a:pt x="1068" y="30"/>
                </a:lnTo>
                <a:lnTo>
                  <a:pt x="1125" y="15"/>
                </a:lnTo>
                <a:lnTo>
                  <a:pt x="1187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1"/>
          <p:cNvSpPr/>
          <p:nvPr/>
        </p:nvSpPr>
        <p:spPr>
          <a:xfrm>
            <a:off x="5668920" y="3313080"/>
            <a:ext cx="895320" cy="1650960"/>
          </a:xfrm>
          <a:custGeom>
            <a:avLst/>
            <a:gdLst/>
            <a:ahLst/>
            <a:rect l="l" t="t" r="r" b="b"/>
            <a:pathLst>
              <a:path w="1127" h="2079">
                <a:moveTo>
                  <a:pt x="232" y="1837"/>
                </a:moveTo>
                <a:lnTo>
                  <a:pt x="263" y="1812"/>
                </a:lnTo>
                <a:lnTo>
                  <a:pt x="292" y="1785"/>
                </a:lnTo>
                <a:lnTo>
                  <a:pt x="321" y="1756"/>
                </a:lnTo>
                <a:lnTo>
                  <a:pt x="349" y="1727"/>
                </a:lnTo>
                <a:lnTo>
                  <a:pt x="378" y="1698"/>
                </a:lnTo>
                <a:lnTo>
                  <a:pt x="405" y="1668"/>
                </a:lnTo>
                <a:lnTo>
                  <a:pt x="432" y="1637"/>
                </a:lnTo>
                <a:lnTo>
                  <a:pt x="457" y="1606"/>
                </a:lnTo>
                <a:lnTo>
                  <a:pt x="484" y="1574"/>
                </a:lnTo>
                <a:lnTo>
                  <a:pt x="507" y="1541"/>
                </a:lnTo>
                <a:lnTo>
                  <a:pt x="532" y="1507"/>
                </a:lnTo>
                <a:lnTo>
                  <a:pt x="555" y="1472"/>
                </a:lnTo>
                <a:lnTo>
                  <a:pt x="578" y="1437"/>
                </a:lnTo>
                <a:lnTo>
                  <a:pt x="599" y="1403"/>
                </a:lnTo>
                <a:lnTo>
                  <a:pt x="618" y="1366"/>
                </a:lnTo>
                <a:lnTo>
                  <a:pt x="639" y="1330"/>
                </a:lnTo>
                <a:lnTo>
                  <a:pt x="658" y="1293"/>
                </a:lnTo>
                <a:lnTo>
                  <a:pt x="676" y="1255"/>
                </a:lnTo>
                <a:lnTo>
                  <a:pt x="693" y="1215"/>
                </a:lnTo>
                <a:lnTo>
                  <a:pt x="710" y="1174"/>
                </a:lnTo>
                <a:lnTo>
                  <a:pt x="727" y="1132"/>
                </a:lnTo>
                <a:lnTo>
                  <a:pt x="743" y="1088"/>
                </a:lnTo>
                <a:lnTo>
                  <a:pt x="758" y="1044"/>
                </a:lnTo>
                <a:lnTo>
                  <a:pt x="772" y="998"/>
                </a:lnTo>
                <a:lnTo>
                  <a:pt x="785" y="950"/>
                </a:lnTo>
                <a:lnTo>
                  <a:pt x="798" y="902"/>
                </a:lnTo>
                <a:lnTo>
                  <a:pt x="812" y="852"/>
                </a:lnTo>
                <a:lnTo>
                  <a:pt x="825" y="800"/>
                </a:lnTo>
                <a:lnTo>
                  <a:pt x="837" y="748"/>
                </a:lnTo>
                <a:lnTo>
                  <a:pt x="848" y="697"/>
                </a:lnTo>
                <a:lnTo>
                  <a:pt x="860" y="641"/>
                </a:lnTo>
                <a:lnTo>
                  <a:pt x="871" y="587"/>
                </a:lnTo>
                <a:lnTo>
                  <a:pt x="875" y="560"/>
                </a:lnTo>
                <a:lnTo>
                  <a:pt x="881" y="535"/>
                </a:lnTo>
                <a:lnTo>
                  <a:pt x="885" y="510"/>
                </a:lnTo>
                <a:lnTo>
                  <a:pt x="891" y="485"/>
                </a:lnTo>
                <a:lnTo>
                  <a:pt x="894" y="462"/>
                </a:lnTo>
                <a:lnTo>
                  <a:pt x="898" y="439"/>
                </a:lnTo>
                <a:lnTo>
                  <a:pt x="902" y="418"/>
                </a:lnTo>
                <a:lnTo>
                  <a:pt x="906" y="397"/>
                </a:lnTo>
                <a:lnTo>
                  <a:pt x="908" y="376"/>
                </a:lnTo>
                <a:lnTo>
                  <a:pt x="912" y="355"/>
                </a:lnTo>
                <a:lnTo>
                  <a:pt x="914" y="336"/>
                </a:lnTo>
                <a:lnTo>
                  <a:pt x="916" y="318"/>
                </a:lnTo>
                <a:lnTo>
                  <a:pt x="919" y="301"/>
                </a:lnTo>
                <a:lnTo>
                  <a:pt x="921" y="284"/>
                </a:lnTo>
                <a:lnTo>
                  <a:pt x="923" y="267"/>
                </a:lnTo>
                <a:lnTo>
                  <a:pt x="923" y="251"/>
                </a:lnTo>
                <a:lnTo>
                  <a:pt x="925" y="236"/>
                </a:lnTo>
                <a:lnTo>
                  <a:pt x="925" y="222"/>
                </a:lnTo>
                <a:lnTo>
                  <a:pt x="927" y="209"/>
                </a:lnTo>
                <a:lnTo>
                  <a:pt x="927" y="196"/>
                </a:lnTo>
                <a:lnTo>
                  <a:pt x="927" y="182"/>
                </a:lnTo>
                <a:lnTo>
                  <a:pt x="927" y="171"/>
                </a:lnTo>
                <a:lnTo>
                  <a:pt x="927" y="161"/>
                </a:lnTo>
                <a:lnTo>
                  <a:pt x="927" y="151"/>
                </a:lnTo>
                <a:lnTo>
                  <a:pt x="927" y="142"/>
                </a:lnTo>
                <a:lnTo>
                  <a:pt x="927" y="132"/>
                </a:lnTo>
                <a:lnTo>
                  <a:pt x="925" y="125"/>
                </a:lnTo>
                <a:lnTo>
                  <a:pt x="923" y="117"/>
                </a:lnTo>
                <a:lnTo>
                  <a:pt x="923" y="111"/>
                </a:lnTo>
                <a:lnTo>
                  <a:pt x="921" y="105"/>
                </a:lnTo>
                <a:lnTo>
                  <a:pt x="919" y="100"/>
                </a:lnTo>
                <a:lnTo>
                  <a:pt x="918" y="96"/>
                </a:lnTo>
                <a:lnTo>
                  <a:pt x="914" y="90"/>
                </a:lnTo>
                <a:lnTo>
                  <a:pt x="910" y="84"/>
                </a:lnTo>
                <a:lnTo>
                  <a:pt x="906" y="78"/>
                </a:lnTo>
                <a:lnTo>
                  <a:pt x="904" y="73"/>
                </a:lnTo>
                <a:lnTo>
                  <a:pt x="900" y="61"/>
                </a:lnTo>
                <a:lnTo>
                  <a:pt x="898" y="52"/>
                </a:lnTo>
                <a:lnTo>
                  <a:pt x="898" y="42"/>
                </a:lnTo>
                <a:lnTo>
                  <a:pt x="898" y="34"/>
                </a:lnTo>
                <a:lnTo>
                  <a:pt x="902" y="27"/>
                </a:lnTo>
                <a:lnTo>
                  <a:pt x="906" y="21"/>
                </a:lnTo>
                <a:lnTo>
                  <a:pt x="908" y="17"/>
                </a:lnTo>
                <a:lnTo>
                  <a:pt x="912" y="15"/>
                </a:lnTo>
                <a:lnTo>
                  <a:pt x="914" y="11"/>
                </a:lnTo>
                <a:lnTo>
                  <a:pt x="918" y="9"/>
                </a:lnTo>
                <a:lnTo>
                  <a:pt x="927" y="6"/>
                </a:lnTo>
                <a:lnTo>
                  <a:pt x="939" y="2"/>
                </a:lnTo>
                <a:lnTo>
                  <a:pt x="952" y="0"/>
                </a:lnTo>
                <a:lnTo>
                  <a:pt x="958" y="0"/>
                </a:lnTo>
                <a:lnTo>
                  <a:pt x="965" y="0"/>
                </a:lnTo>
                <a:lnTo>
                  <a:pt x="973" y="0"/>
                </a:lnTo>
                <a:lnTo>
                  <a:pt x="981" y="2"/>
                </a:lnTo>
                <a:lnTo>
                  <a:pt x="990" y="2"/>
                </a:lnTo>
                <a:lnTo>
                  <a:pt x="998" y="6"/>
                </a:lnTo>
                <a:lnTo>
                  <a:pt x="1012" y="11"/>
                </a:lnTo>
                <a:lnTo>
                  <a:pt x="1025" y="19"/>
                </a:lnTo>
                <a:lnTo>
                  <a:pt x="1037" y="29"/>
                </a:lnTo>
                <a:lnTo>
                  <a:pt x="1050" y="38"/>
                </a:lnTo>
                <a:lnTo>
                  <a:pt x="1061" y="52"/>
                </a:lnTo>
                <a:lnTo>
                  <a:pt x="1071" y="63"/>
                </a:lnTo>
                <a:lnTo>
                  <a:pt x="1083" y="78"/>
                </a:lnTo>
                <a:lnTo>
                  <a:pt x="1092" y="96"/>
                </a:lnTo>
                <a:lnTo>
                  <a:pt x="1100" y="111"/>
                </a:lnTo>
                <a:lnTo>
                  <a:pt x="1106" y="128"/>
                </a:lnTo>
                <a:lnTo>
                  <a:pt x="1111" y="146"/>
                </a:lnTo>
                <a:lnTo>
                  <a:pt x="1117" y="165"/>
                </a:lnTo>
                <a:lnTo>
                  <a:pt x="1121" y="186"/>
                </a:lnTo>
                <a:lnTo>
                  <a:pt x="1123" y="198"/>
                </a:lnTo>
                <a:lnTo>
                  <a:pt x="1123" y="207"/>
                </a:lnTo>
                <a:lnTo>
                  <a:pt x="1125" y="221"/>
                </a:lnTo>
                <a:lnTo>
                  <a:pt x="1125" y="232"/>
                </a:lnTo>
                <a:lnTo>
                  <a:pt x="1125" y="245"/>
                </a:lnTo>
                <a:lnTo>
                  <a:pt x="1127" y="259"/>
                </a:lnTo>
                <a:lnTo>
                  <a:pt x="1125" y="267"/>
                </a:lnTo>
                <a:lnTo>
                  <a:pt x="1123" y="274"/>
                </a:lnTo>
                <a:lnTo>
                  <a:pt x="1123" y="282"/>
                </a:lnTo>
                <a:lnTo>
                  <a:pt x="1121" y="290"/>
                </a:lnTo>
                <a:lnTo>
                  <a:pt x="1119" y="299"/>
                </a:lnTo>
                <a:lnTo>
                  <a:pt x="1117" y="309"/>
                </a:lnTo>
                <a:lnTo>
                  <a:pt x="1115" y="320"/>
                </a:lnTo>
                <a:lnTo>
                  <a:pt x="1113" y="332"/>
                </a:lnTo>
                <a:lnTo>
                  <a:pt x="1111" y="343"/>
                </a:lnTo>
                <a:lnTo>
                  <a:pt x="1108" y="355"/>
                </a:lnTo>
                <a:lnTo>
                  <a:pt x="1106" y="366"/>
                </a:lnTo>
                <a:lnTo>
                  <a:pt x="1104" y="380"/>
                </a:lnTo>
                <a:lnTo>
                  <a:pt x="1100" y="393"/>
                </a:lnTo>
                <a:lnTo>
                  <a:pt x="1098" y="407"/>
                </a:lnTo>
                <a:lnTo>
                  <a:pt x="1094" y="422"/>
                </a:lnTo>
                <a:lnTo>
                  <a:pt x="1090" y="437"/>
                </a:lnTo>
                <a:lnTo>
                  <a:pt x="1088" y="453"/>
                </a:lnTo>
                <a:lnTo>
                  <a:pt x="1084" y="468"/>
                </a:lnTo>
                <a:lnTo>
                  <a:pt x="1081" y="485"/>
                </a:lnTo>
                <a:lnTo>
                  <a:pt x="1077" y="503"/>
                </a:lnTo>
                <a:lnTo>
                  <a:pt x="1073" y="520"/>
                </a:lnTo>
                <a:lnTo>
                  <a:pt x="1069" y="539"/>
                </a:lnTo>
                <a:lnTo>
                  <a:pt x="1065" y="556"/>
                </a:lnTo>
                <a:lnTo>
                  <a:pt x="1060" y="578"/>
                </a:lnTo>
                <a:lnTo>
                  <a:pt x="1056" y="597"/>
                </a:lnTo>
                <a:lnTo>
                  <a:pt x="1052" y="616"/>
                </a:lnTo>
                <a:lnTo>
                  <a:pt x="1046" y="637"/>
                </a:lnTo>
                <a:lnTo>
                  <a:pt x="1042" y="658"/>
                </a:lnTo>
                <a:lnTo>
                  <a:pt x="1037" y="681"/>
                </a:lnTo>
                <a:lnTo>
                  <a:pt x="1033" y="704"/>
                </a:lnTo>
                <a:lnTo>
                  <a:pt x="1027" y="727"/>
                </a:lnTo>
                <a:lnTo>
                  <a:pt x="1021" y="750"/>
                </a:lnTo>
                <a:lnTo>
                  <a:pt x="1008" y="800"/>
                </a:lnTo>
                <a:lnTo>
                  <a:pt x="994" y="848"/>
                </a:lnTo>
                <a:lnTo>
                  <a:pt x="979" y="898"/>
                </a:lnTo>
                <a:lnTo>
                  <a:pt x="964" y="946"/>
                </a:lnTo>
                <a:lnTo>
                  <a:pt x="946" y="992"/>
                </a:lnTo>
                <a:lnTo>
                  <a:pt x="929" y="1040"/>
                </a:lnTo>
                <a:lnTo>
                  <a:pt x="912" y="1086"/>
                </a:lnTo>
                <a:lnTo>
                  <a:pt x="893" y="1130"/>
                </a:lnTo>
                <a:lnTo>
                  <a:pt x="873" y="1176"/>
                </a:lnTo>
                <a:lnTo>
                  <a:pt x="852" y="1221"/>
                </a:lnTo>
                <a:lnTo>
                  <a:pt x="831" y="1265"/>
                </a:lnTo>
                <a:lnTo>
                  <a:pt x="810" y="1309"/>
                </a:lnTo>
                <a:lnTo>
                  <a:pt x="789" y="1351"/>
                </a:lnTo>
                <a:lnTo>
                  <a:pt x="766" y="1395"/>
                </a:lnTo>
                <a:lnTo>
                  <a:pt x="743" y="1437"/>
                </a:lnTo>
                <a:lnTo>
                  <a:pt x="720" y="1480"/>
                </a:lnTo>
                <a:lnTo>
                  <a:pt x="695" y="1520"/>
                </a:lnTo>
                <a:lnTo>
                  <a:pt x="668" y="1560"/>
                </a:lnTo>
                <a:lnTo>
                  <a:pt x="641" y="1599"/>
                </a:lnTo>
                <a:lnTo>
                  <a:pt x="614" y="1633"/>
                </a:lnTo>
                <a:lnTo>
                  <a:pt x="587" y="1668"/>
                </a:lnTo>
                <a:lnTo>
                  <a:pt x="559" y="1700"/>
                </a:lnTo>
                <a:lnTo>
                  <a:pt x="532" y="1733"/>
                </a:lnTo>
                <a:lnTo>
                  <a:pt x="503" y="1762"/>
                </a:lnTo>
                <a:lnTo>
                  <a:pt x="474" y="1791"/>
                </a:lnTo>
                <a:lnTo>
                  <a:pt x="445" y="1817"/>
                </a:lnTo>
                <a:lnTo>
                  <a:pt x="417" y="1844"/>
                </a:lnTo>
                <a:lnTo>
                  <a:pt x="388" y="1869"/>
                </a:lnTo>
                <a:lnTo>
                  <a:pt x="357" y="1892"/>
                </a:lnTo>
                <a:lnTo>
                  <a:pt x="328" y="1915"/>
                </a:lnTo>
                <a:lnTo>
                  <a:pt x="298" y="1936"/>
                </a:lnTo>
                <a:lnTo>
                  <a:pt x="267" y="1956"/>
                </a:lnTo>
                <a:lnTo>
                  <a:pt x="251" y="1965"/>
                </a:lnTo>
                <a:lnTo>
                  <a:pt x="236" y="1975"/>
                </a:lnTo>
                <a:lnTo>
                  <a:pt x="221" y="1984"/>
                </a:lnTo>
                <a:lnTo>
                  <a:pt x="207" y="1992"/>
                </a:lnTo>
                <a:lnTo>
                  <a:pt x="192" y="2000"/>
                </a:lnTo>
                <a:lnTo>
                  <a:pt x="179" y="2008"/>
                </a:lnTo>
                <a:lnTo>
                  <a:pt x="167" y="2015"/>
                </a:lnTo>
                <a:lnTo>
                  <a:pt x="154" y="2021"/>
                </a:lnTo>
                <a:lnTo>
                  <a:pt x="142" y="2029"/>
                </a:lnTo>
                <a:lnTo>
                  <a:pt x="131" y="2034"/>
                </a:lnTo>
                <a:lnTo>
                  <a:pt x="121" y="2038"/>
                </a:lnTo>
                <a:lnTo>
                  <a:pt x="109" y="2044"/>
                </a:lnTo>
                <a:lnTo>
                  <a:pt x="100" y="2050"/>
                </a:lnTo>
                <a:lnTo>
                  <a:pt x="90" y="2054"/>
                </a:lnTo>
                <a:lnTo>
                  <a:pt x="83" y="2057"/>
                </a:lnTo>
                <a:lnTo>
                  <a:pt x="73" y="2061"/>
                </a:lnTo>
                <a:lnTo>
                  <a:pt x="58" y="2067"/>
                </a:lnTo>
                <a:lnTo>
                  <a:pt x="44" y="2073"/>
                </a:lnTo>
                <a:lnTo>
                  <a:pt x="33" y="2075"/>
                </a:lnTo>
                <a:lnTo>
                  <a:pt x="23" y="2079"/>
                </a:lnTo>
                <a:lnTo>
                  <a:pt x="15" y="2079"/>
                </a:lnTo>
                <a:lnTo>
                  <a:pt x="8" y="2079"/>
                </a:lnTo>
                <a:lnTo>
                  <a:pt x="4" y="2077"/>
                </a:lnTo>
                <a:lnTo>
                  <a:pt x="0" y="2075"/>
                </a:lnTo>
                <a:lnTo>
                  <a:pt x="0" y="2073"/>
                </a:lnTo>
                <a:lnTo>
                  <a:pt x="0" y="2071"/>
                </a:lnTo>
                <a:lnTo>
                  <a:pt x="0" y="2069"/>
                </a:lnTo>
                <a:lnTo>
                  <a:pt x="0" y="2067"/>
                </a:lnTo>
                <a:lnTo>
                  <a:pt x="2" y="2063"/>
                </a:lnTo>
                <a:lnTo>
                  <a:pt x="4" y="2059"/>
                </a:lnTo>
                <a:lnTo>
                  <a:pt x="6" y="2055"/>
                </a:lnTo>
                <a:lnTo>
                  <a:pt x="10" y="2052"/>
                </a:lnTo>
                <a:lnTo>
                  <a:pt x="13" y="2046"/>
                </a:lnTo>
                <a:lnTo>
                  <a:pt x="17" y="2040"/>
                </a:lnTo>
                <a:lnTo>
                  <a:pt x="21" y="2034"/>
                </a:lnTo>
                <a:lnTo>
                  <a:pt x="27" y="2029"/>
                </a:lnTo>
                <a:lnTo>
                  <a:pt x="33" y="2023"/>
                </a:lnTo>
                <a:lnTo>
                  <a:pt x="38" y="2015"/>
                </a:lnTo>
                <a:lnTo>
                  <a:pt x="44" y="2009"/>
                </a:lnTo>
                <a:lnTo>
                  <a:pt x="52" y="2002"/>
                </a:lnTo>
                <a:lnTo>
                  <a:pt x="59" y="1994"/>
                </a:lnTo>
                <a:lnTo>
                  <a:pt x="67" y="1984"/>
                </a:lnTo>
                <a:lnTo>
                  <a:pt x="77" y="1977"/>
                </a:lnTo>
                <a:lnTo>
                  <a:pt x="84" y="1967"/>
                </a:lnTo>
                <a:lnTo>
                  <a:pt x="96" y="1960"/>
                </a:lnTo>
                <a:lnTo>
                  <a:pt x="106" y="1950"/>
                </a:lnTo>
                <a:lnTo>
                  <a:pt x="115" y="1940"/>
                </a:lnTo>
                <a:lnTo>
                  <a:pt x="127" y="1929"/>
                </a:lnTo>
                <a:lnTo>
                  <a:pt x="138" y="1919"/>
                </a:lnTo>
                <a:lnTo>
                  <a:pt x="150" y="1908"/>
                </a:lnTo>
                <a:lnTo>
                  <a:pt x="177" y="1887"/>
                </a:lnTo>
                <a:lnTo>
                  <a:pt x="203" y="1862"/>
                </a:lnTo>
                <a:lnTo>
                  <a:pt x="232" y="18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52"/>
          <p:cNvSpPr/>
          <p:nvPr/>
        </p:nvSpPr>
        <p:spPr>
          <a:xfrm>
            <a:off x="5978520" y="2698920"/>
            <a:ext cx="541440" cy="2038320"/>
          </a:xfrm>
          <a:custGeom>
            <a:avLst/>
            <a:gdLst/>
            <a:ahLst/>
            <a:rect l="l" t="t" r="r" b="b"/>
            <a:pathLst>
              <a:path w="681" h="2569">
                <a:moveTo>
                  <a:pt x="28" y="1555"/>
                </a:moveTo>
                <a:lnTo>
                  <a:pt x="34" y="1526"/>
                </a:lnTo>
                <a:lnTo>
                  <a:pt x="42" y="1496"/>
                </a:lnTo>
                <a:lnTo>
                  <a:pt x="48" y="1463"/>
                </a:lnTo>
                <a:lnTo>
                  <a:pt x="53" y="1430"/>
                </a:lnTo>
                <a:lnTo>
                  <a:pt x="61" y="1394"/>
                </a:lnTo>
                <a:lnTo>
                  <a:pt x="67" y="1355"/>
                </a:lnTo>
                <a:lnTo>
                  <a:pt x="75" y="1315"/>
                </a:lnTo>
                <a:lnTo>
                  <a:pt x="80" y="1275"/>
                </a:lnTo>
                <a:lnTo>
                  <a:pt x="84" y="1254"/>
                </a:lnTo>
                <a:lnTo>
                  <a:pt x="88" y="1231"/>
                </a:lnTo>
                <a:lnTo>
                  <a:pt x="90" y="1208"/>
                </a:lnTo>
                <a:lnTo>
                  <a:pt x="94" y="1185"/>
                </a:lnTo>
                <a:lnTo>
                  <a:pt x="98" y="1162"/>
                </a:lnTo>
                <a:lnTo>
                  <a:pt x="99" y="1139"/>
                </a:lnTo>
                <a:lnTo>
                  <a:pt x="103" y="1114"/>
                </a:lnTo>
                <a:lnTo>
                  <a:pt x="107" y="1089"/>
                </a:lnTo>
                <a:lnTo>
                  <a:pt x="109" y="1064"/>
                </a:lnTo>
                <a:lnTo>
                  <a:pt x="113" y="1037"/>
                </a:lnTo>
                <a:lnTo>
                  <a:pt x="117" y="1010"/>
                </a:lnTo>
                <a:lnTo>
                  <a:pt x="121" y="983"/>
                </a:lnTo>
                <a:lnTo>
                  <a:pt x="122" y="956"/>
                </a:lnTo>
                <a:lnTo>
                  <a:pt x="126" y="927"/>
                </a:lnTo>
                <a:lnTo>
                  <a:pt x="130" y="901"/>
                </a:lnTo>
                <a:lnTo>
                  <a:pt x="132" y="872"/>
                </a:lnTo>
                <a:lnTo>
                  <a:pt x="136" y="843"/>
                </a:lnTo>
                <a:lnTo>
                  <a:pt x="138" y="816"/>
                </a:lnTo>
                <a:lnTo>
                  <a:pt x="142" y="789"/>
                </a:lnTo>
                <a:lnTo>
                  <a:pt x="144" y="764"/>
                </a:lnTo>
                <a:lnTo>
                  <a:pt x="147" y="739"/>
                </a:lnTo>
                <a:lnTo>
                  <a:pt x="149" y="714"/>
                </a:lnTo>
                <a:lnTo>
                  <a:pt x="151" y="689"/>
                </a:lnTo>
                <a:lnTo>
                  <a:pt x="155" y="666"/>
                </a:lnTo>
                <a:lnTo>
                  <a:pt x="157" y="643"/>
                </a:lnTo>
                <a:lnTo>
                  <a:pt x="159" y="622"/>
                </a:lnTo>
                <a:lnTo>
                  <a:pt x="161" y="599"/>
                </a:lnTo>
                <a:lnTo>
                  <a:pt x="163" y="578"/>
                </a:lnTo>
                <a:lnTo>
                  <a:pt x="165" y="559"/>
                </a:lnTo>
                <a:lnTo>
                  <a:pt x="167" y="538"/>
                </a:lnTo>
                <a:lnTo>
                  <a:pt x="167" y="519"/>
                </a:lnTo>
                <a:lnTo>
                  <a:pt x="169" y="499"/>
                </a:lnTo>
                <a:lnTo>
                  <a:pt x="170" y="482"/>
                </a:lnTo>
                <a:lnTo>
                  <a:pt x="170" y="465"/>
                </a:lnTo>
                <a:lnTo>
                  <a:pt x="172" y="448"/>
                </a:lnTo>
                <a:lnTo>
                  <a:pt x="174" y="430"/>
                </a:lnTo>
                <a:lnTo>
                  <a:pt x="174" y="415"/>
                </a:lnTo>
                <a:lnTo>
                  <a:pt x="174" y="400"/>
                </a:lnTo>
                <a:lnTo>
                  <a:pt x="176" y="384"/>
                </a:lnTo>
                <a:lnTo>
                  <a:pt x="176" y="371"/>
                </a:lnTo>
                <a:lnTo>
                  <a:pt x="178" y="355"/>
                </a:lnTo>
                <a:lnTo>
                  <a:pt x="178" y="344"/>
                </a:lnTo>
                <a:lnTo>
                  <a:pt x="178" y="330"/>
                </a:lnTo>
                <a:lnTo>
                  <a:pt x="178" y="319"/>
                </a:lnTo>
                <a:lnTo>
                  <a:pt x="178" y="307"/>
                </a:lnTo>
                <a:lnTo>
                  <a:pt x="178" y="296"/>
                </a:lnTo>
                <a:lnTo>
                  <a:pt x="180" y="284"/>
                </a:lnTo>
                <a:lnTo>
                  <a:pt x="180" y="275"/>
                </a:lnTo>
                <a:lnTo>
                  <a:pt x="178" y="256"/>
                </a:lnTo>
                <a:lnTo>
                  <a:pt x="178" y="238"/>
                </a:lnTo>
                <a:lnTo>
                  <a:pt x="178" y="221"/>
                </a:lnTo>
                <a:lnTo>
                  <a:pt x="176" y="206"/>
                </a:lnTo>
                <a:lnTo>
                  <a:pt x="176" y="190"/>
                </a:lnTo>
                <a:lnTo>
                  <a:pt x="174" y="177"/>
                </a:lnTo>
                <a:lnTo>
                  <a:pt x="172" y="164"/>
                </a:lnTo>
                <a:lnTo>
                  <a:pt x="170" y="152"/>
                </a:lnTo>
                <a:lnTo>
                  <a:pt x="169" y="142"/>
                </a:lnTo>
                <a:lnTo>
                  <a:pt x="165" y="133"/>
                </a:lnTo>
                <a:lnTo>
                  <a:pt x="163" y="123"/>
                </a:lnTo>
                <a:lnTo>
                  <a:pt x="159" y="116"/>
                </a:lnTo>
                <a:lnTo>
                  <a:pt x="155" y="110"/>
                </a:lnTo>
                <a:lnTo>
                  <a:pt x="153" y="104"/>
                </a:lnTo>
                <a:lnTo>
                  <a:pt x="147" y="100"/>
                </a:lnTo>
                <a:lnTo>
                  <a:pt x="144" y="96"/>
                </a:lnTo>
                <a:lnTo>
                  <a:pt x="140" y="94"/>
                </a:lnTo>
                <a:lnTo>
                  <a:pt x="136" y="91"/>
                </a:lnTo>
                <a:lnTo>
                  <a:pt x="134" y="89"/>
                </a:lnTo>
                <a:lnTo>
                  <a:pt x="130" y="85"/>
                </a:lnTo>
                <a:lnTo>
                  <a:pt x="128" y="79"/>
                </a:lnTo>
                <a:lnTo>
                  <a:pt x="126" y="71"/>
                </a:lnTo>
                <a:lnTo>
                  <a:pt x="124" y="66"/>
                </a:lnTo>
                <a:lnTo>
                  <a:pt x="126" y="56"/>
                </a:lnTo>
                <a:lnTo>
                  <a:pt x="128" y="46"/>
                </a:lnTo>
                <a:lnTo>
                  <a:pt x="132" y="37"/>
                </a:lnTo>
                <a:lnTo>
                  <a:pt x="136" y="31"/>
                </a:lnTo>
                <a:lnTo>
                  <a:pt x="138" y="27"/>
                </a:lnTo>
                <a:lnTo>
                  <a:pt x="142" y="21"/>
                </a:lnTo>
                <a:lnTo>
                  <a:pt x="146" y="18"/>
                </a:lnTo>
                <a:lnTo>
                  <a:pt x="149" y="14"/>
                </a:lnTo>
                <a:lnTo>
                  <a:pt x="155" y="10"/>
                </a:lnTo>
                <a:lnTo>
                  <a:pt x="161" y="8"/>
                </a:lnTo>
                <a:lnTo>
                  <a:pt x="167" y="4"/>
                </a:lnTo>
                <a:lnTo>
                  <a:pt x="174" y="2"/>
                </a:lnTo>
                <a:lnTo>
                  <a:pt x="182" y="2"/>
                </a:lnTo>
                <a:lnTo>
                  <a:pt x="190" y="0"/>
                </a:lnTo>
                <a:lnTo>
                  <a:pt x="197" y="0"/>
                </a:lnTo>
                <a:lnTo>
                  <a:pt x="207" y="0"/>
                </a:lnTo>
                <a:lnTo>
                  <a:pt x="217" y="2"/>
                </a:lnTo>
                <a:lnTo>
                  <a:pt x="226" y="4"/>
                </a:lnTo>
                <a:lnTo>
                  <a:pt x="238" y="6"/>
                </a:lnTo>
                <a:lnTo>
                  <a:pt x="259" y="14"/>
                </a:lnTo>
                <a:lnTo>
                  <a:pt x="278" y="21"/>
                </a:lnTo>
                <a:lnTo>
                  <a:pt x="297" y="29"/>
                </a:lnTo>
                <a:lnTo>
                  <a:pt x="316" y="41"/>
                </a:lnTo>
                <a:lnTo>
                  <a:pt x="332" y="52"/>
                </a:lnTo>
                <a:lnTo>
                  <a:pt x="349" y="66"/>
                </a:lnTo>
                <a:lnTo>
                  <a:pt x="362" y="81"/>
                </a:lnTo>
                <a:lnTo>
                  <a:pt x="376" y="96"/>
                </a:lnTo>
                <a:lnTo>
                  <a:pt x="382" y="106"/>
                </a:lnTo>
                <a:lnTo>
                  <a:pt x="387" y="116"/>
                </a:lnTo>
                <a:lnTo>
                  <a:pt x="391" y="127"/>
                </a:lnTo>
                <a:lnTo>
                  <a:pt x="393" y="140"/>
                </a:lnTo>
                <a:lnTo>
                  <a:pt x="395" y="156"/>
                </a:lnTo>
                <a:lnTo>
                  <a:pt x="397" y="173"/>
                </a:lnTo>
                <a:lnTo>
                  <a:pt x="397" y="190"/>
                </a:lnTo>
                <a:lnTo>
                  <a:pt x="397" y="210"/>
                </a:lnTo>
                <a:lnTo>
                  <a:pt x="395" y="231"/>
                </a:lnTo>
                <a:lnTo>
                  <a:pt x="393" y="254"/>
                </a:lnTo>
                <a:lnTo>
                  <a:pt x="389" y="277"/>
                </a:lnTo>
                <a:lnTo>
                  <a:pt x="385" y="304"/>
                </a:lnTo>
                <a:lnTo>
                  <a:pt x="382" y="330"/>
                </a:lnTo>
                <a:lnTo>
                  <a:pt x="376" y="359"/>
                </a:lnTo>
                <a:lnTo>
                  <a:pt x="370" y="392"/>
                </a:lnTo>
                <a:lnTo>
                  <a:pt x="364" y="425"/>
                </a:lnTo>
                <a:lnTo>
                  <a:pt x="359" y="461"/>
                </a:lnTo>
                <a:lnTo>
                  <a:pt x="351" y="499"/>
                </a:lnTo>
                <a:lnTo>
                  <a:pt x="343" y="540"/>
                </a:lnTo>
                <a:lnTo>
                  <a:pt x="336" y="580"/>
                </a:lnTo>
                <a:lnTo>
                  <a:pt x="326" y="622"/>
                </a:lnTo>
                <a:lnTo>
                  <a:pt x="316" y="668"/>
                </a:lnTo>
                <a:lnTo>
                  <a:pt x="307" y="712"/>
                </a:lnTo>
                <a:lnTo>
                  <a:pt x="297" y="760"/>
                </a:lnTo>
                <a:lnTo>
                  <a:pt x="288" y="810"/>
                </a:lnTo>
                <a:lnTo>
                  <a:pt x="278" y="860"/>
                </a:lnTo>
                <a:lnTo>
                  <a:pt x="266" y="912"/>
                </a:lnTo>
                <a:lnTo>
                  <a:pt x="257" y="966"/>
                </a:lnTo>
                <a:lnTo>
                  <a:pt x="245" y="1021"/>
                </a:lnTo>
                <a:lnTo>
                  <a:pt x="236" y="1079"/>
                </a:lnTo>
                <a:lnTo>
                  <a:pt x="224" y="1137"/>
                </a:lnTo>
                <a:lnTo>
                  <a:pt x="215" y="1198"/>
                </a:lnTo>
                <a:lnTo>
                  <a:pt x="209" y="1229"/>
                </a:lnTo>
                <a:lnTo>
                  <a:pt x="203" y="1258"/>
                </a:lnTo>
                <a:lnTo>
                  <a:pt x="199" y="1286"/>
                </a:lnTo>
                <a:lnTo>
                  <a:pt x="194" y="1313"/>
                </a:lnTo>
                <a:lnTo>
                  <a:pt x="190" y="1340"/>
                </a:lnTo>
                <a:lnTo>
                  <a:pt x="184" y="1367"/>
                </a:lnTo>
                <a:lnTo>
                  <a:pt x="180" y="1392"/>
                </a:lnTo>
                <a:lnTo>
                  <a:pt x="176" y="1417"/>
                </a:lnTo>
                <a:lnTo>
                  <a:pt x="170" y="1440"/>
                </a:lnTo>
                <a:lnTo>
                  <a:pt x="167" y="1461"/>
                </a:lnTo>
                <a:lnTo>
                  <a:pt x="163" y="1484"/>
                </a:lnTo>
                <a:lnTo>
                  <a:pt x="159" y="1503"/>
                </a:lnTo>
                <a:lnTo>
                  <a:pt x="155" y="1524"/>
                </a:lnTo>
                <a:lnTo>
                  <a:pt x="153" y="1544"/>
                </a:lnTo>
                <a:lnTo>
                  <a:pt x="149" y="1561"/>
                </a:lnTo>
                <a:lnTo>
                  <a:pt x="146" y="1578"/>
                </a:lnTo>
                <a:lnTo>
                  <a:pt x="144" y="1593"/>
                </a:lnTo>
                <a:lnTo>
                  <a:pt x="140" y="1609"/>
                </a:lnTo>
                <a:lnTo>
                  <a:pt x="138" y="1624"/>
                </a:lnTo>
                <a:lnTo>
                  <a:pt x="136" y="1638"/>
                </a:lnTo>
                <a:lnTo>
                  <a:pt x="134" y="1651"/>
                </a:lnTo>
                <a:lnTo>
                  <a:pt x="132" y="1663"/>
                </a:lnTo>
                <a:lnTo>
                  <a:pt x="130" y="1674"/>
                </a:lnTo>
                <a:lnTo>
                  <a:pt x="128" y="1684"/>
                </a:lnTo>
                <a:lnTo>
                  <a:pt x="126" y="1693"/>
                </a:lnTo>
                <a:lnTo>
                  <a:pt x="124" y="1703"/>
                </a:lnTo>
                <a:lnTo>
                  <a:pt x="124" y="1709"/>
                </a:lnTo>
                <a:lnTo>
                  <a:pt x="122" y="1716"/>
                </a:lnTo>
                <a:lnTo>
                  <a:pt x="122" y="1722"/>
                </a:lnTo>
                <a:lnTo>
                  <a:pt x="121" y="1728"/>
                </a:lnTo>
                <a:lnTo>
                  <a:pt x="121" y="1732"/>
                </a:lnTo>
                <a:lnTo>
                  <a:pt x="121" y="1736"/>
                </a:lnTo>
                <a:lnTo>
                  <a:pt x="122" y="1741"/>
                </a:lnTo>
                <a:lnTo>
                  <a:pt x="124" y="1747"/>
                </a:lnTo>
                <a:lnTo>
                  <a:pt x="128" y="1757"/>
                </a:lnTo>
                <a:lnTo>
                  <a:pt x="134" y="1766"/>
                </a:lnTo>
                <a:lnTo>
                  <a:pt x="142" y="1776"/>
                </a:lnTo>
                <a:lnTo>
                  <a:pt x="151" y="1787"/>
                </a:lnTo>
                <a:lnTo>
                  <a:pt x="163" y="1801"/>
                </a:lnTo>
                <a:lnTo>
                  <a:pt x="174" y="1814"/>
                </a:lnTo>
                <a:lnTo>
                  <a:pt x="190" y="1830"/>
                </a:lnTo>
                <a:lnTo>
                  <a:pt x="207" y="1845"/>
                </a:lnTo>
                <a:lnTo>
                  <a:pt x="224" y="1864"/>
                </a:lnTo>
                <a:lnTo>
                  <a:pt x="243" y="1883"/>
                </a:lnTo>
                <a:lnTo>
                  <a:pt x="266" y="1902"/>
                </a:lnTo>
                <a:lnTo>
                  <a:pt x="289" y="1926"/>
                </a:lnTo>
                <a:lnTo>
                  <a:pt x="314" y="1949"/>
                </a:lnTo>
                <a:lnTo>
                  <a:pt x="341" y="1974"/>
                </a:lnTo>
                <a:lnTo>
                  <a:pt x="366" y="1998"/>
                </a:lnTo>
                <a:lnTo>
                  <a:pt x="391" y="2022"/>
                </a:lnTo>
                <a:lnTo>
                  <a:pt x="414" y="2045"/>
                </a:lnTo>
                <a:lnTo>
                  <a:pt x="437" y="2068"/>
                </a:lnTo>
                <a:lnTo>
                  <a:pt x="458" y="2089"/>
                </a:lnTo>
                <a:lnTo>
                  <a:pt x="478" y="2110"/>
                </a:lnTo>
                <a:lnTo>
                  <a:pt x="497" y="2129"/>
                </a:lnTo>
                <a:lnTo>
                  <a:pt x="516" y="2148"/>
                </a:lnTo>
                <a:lnTo>
                  <a:pt x="531" y="2165"/>
                </a:lnTo>
                <a:lnTo>
                  <a:pt x="549" y="2183"/>
                </a:lnTo>
                <a:lnTo>
                  <a:pt x="562" y="2198"/>
                </a:lnTo>
                <a:lnTo>
                  <a:pt x="577" y="2212"/>
                </a:lnTo>
                <a:lnTo>
                  <a:pt x="589" y="2225"/>
                </a:lnTo>
                <a:lnTo>
                  <a:pt x="600" y="2236"/>
                </a:lnTo>
                <a:lnTo>
                  <a:pt x="610" y="2246"/>
                </a:lnTo>
                <a:lnTo>
                  <a:pt x="620" y="2256"/>
                </a:lnTo>
                <a:lnTo>
                  <a:pt x="629" y="2265"/>
                </a:lnTo>
                <a:lnTo>
                  <a:pt x="637" y="2275"/>
                </a:lnTo>
                <a:lnTo>
                  <a:pt x="643" y="2284"/>
                </a:lnTo>
                <a:lnTo>
                  <a:pt x="650" y="2294"/>
                </a:lnTo>
                <a:lnTo>
                  <a:pt x="656" y="2306"/>
                </a:lnTo>
                <a:lnTo>
                  <a:pt x="662" y="2317"/>
                </a:lnTo>
                <a:lnTo>
                  <a:pt x="666" y="2329"/>
                </a:lnTo>
                <a:lnTo>
                  <a:pt x="670" y="2342"/>
                </a:lnTo>
                <a:lnTo>
                  <a:pt x="673" y="2354"/>
                </a:lnTo>
                <a:lnTo>
                  <a:pt x="677" y="2367"/>
                </a:lnTo>
                <a:lnTo>
                  <a:pt x="679" y="2380"/>
                </a:lnTo>
                <a:lnTo>
                  <a:pt x="679" y="2394"/>
                </a:lnTo>
                <a:lnTo>
                  <a:pt x="681" y="2407"/>
                </a:lnTo>
                <a:lnTo>
                  <a:pt x="681" y="2421"/>
                </a:lnTo>
                <a:lnTo>
                  <a:pt x="679" y="2436"/>
                </a:lnTo>
                <a:lnTo>
                  <a:pt x="677" y="2450"/>
                </a:lnTo>
                <a:lnTo>
                  <a:pt x="675" y="2463"/>
                </a:lnTo>
                <a:lnTo>
                  <a:pt x="673" y="2476"/>
                </a:lnTo>
                <a:lnTo>
                  <a:pt x="671" y="2488"/>
                </a:lnTo>
                <a:lnTo>
                  <a:pt x="670" y="2499"/>
                </a:lnTo>
                <a:lnTo>
                  <a:pt x="668" y="2509"/>
                </a:lnTo>
                <a:lnTo>
                  <a:pt x="666" y="2521"/>
                </a:lnTo>
                <a:lnTo>
                  <a:pt x="662" y="2528"/>
                </a:lnTo>
                <a:lnTo>
                  <a:pt x="660" y="2536"/>
                </a:lnTo>
                <a:lnTo>
                  <a:pt x="658" y="2544"/>
                </a:lnTo>
                <a:lnTo>
                  <a:pt x="656" y="2549"/>
                </a:lnTo>
                <a:lnTo>
                  <a:pt x="654" y="2555"/>
                </a:lnTo>
                <a:lnTo>
                  <a:pt x="652" y="2561"/>
                </a:lnTo>
                <a:lnTo>
                  <a:pt x="650" y="2563"/>
                </a:lnTo>
                <a:lnTo>
                  <a:pt x="648" y="2567"/>
                </a:lnTo>
                <a:lnTo>
                  <a:pt x="645" y="2569"/>
                </a:lnTo>
                <a:lnTo>
                  <a:pt x="643" y="2569"/>
                </a:lnTo>
                <a:lnTo>
                  <a:pt x="641" y="2569"/>
                </a:lnTo>
                <a:lnTo>
                  <a:pt x="639" y="2567"/>
                </a:lnTo>
                <a:lnTo>
                  <a:pt x="635" y="2565"/>
                </a:lnTo>
                <a:lnTo>
                  <a:pt x="631" y="2563"/>
                </a:lnTo>
                <a:lnTo>
                  <a:pt x="625" y="2559"/>
                </a:lnTo>
                <a:lnTo>
                  <a:pt x="622" y="2555"/>
                </a:lnTo>
                <a:lnTo>
                  <a:pt x="616" y="2551"/>
                </a:lnTo>
                <a:lnTo>
                  <a:pt x="610" y="2546"/>
                </a:lnTo>
                <a:lnTo>
                  <a:pt x="604" y="2540"/>
                </a:lnTo>
                <a:lnTo>
                  <a:pt x="597" y="2534"/>
                </a:lnTo>
                <a:lnTo>
                  <a:pt x="589" y="2526"/>
                </a:lnTo>
                <a:lnTo>
                  <a:pt x="581" y="2519"/>
                </a:lnTo>
                <a:lnTo>
                  <a:pt x="574" y="2509"/>
                </a:lnTo>
                <a:lnTo>
                  <a:pt x="564" y="2499"/>
                </a:lnTo>
                <a:lnTo>
                  <a:pt x="554" y="2490"/>
                </a:lnTo>
                <a:lnTo>
                  <a:pt x="545" y="2480"/>
                </a:lnTo>
                <a:lnTo>
                  <a:pt x="535" y="2469"/>
                </a:lnTo>
                <a:lnTo>
                  <a:pt x="524" y="2455"/>
                </a:lnTo>
                <a:lnTo>
                  <a:pt x="512" y="2444"/>
                </a:lnTo>
                <a:lnTo>
                  <a:pt x="501" y="2430"/>
                </a:lnTo>
                <a:lnTo>
                  <a:pt x="489" y="2415"/>
                </a:lnTo>
                <a:lnTo>
                  <a:pt x="476" y="2400"/>
                </a:lnTo>
                <a:lnTo>
                  <a:pt x="462" y="2384"/>
                </a:lnTo>
                <a:lnTo>
                  <a:pt x="449" y="2369"/>
                </a:lnTo>
                <a:lnTo>
                  <a:pt x="433" y="2352"/>
                </a:lnTo>
                <a:lnTo>
                  <a:pt x="418" y="2332"/>
                </a:lnTo>
                <a:lnTo>
                  <a:pt x="403" y="2315"/>
                </a:lnTo>
                <a:lnTo>
                  <a:pt x="387" y="2296"/>
                </a:lnTo>
                <a:lnTo>
                  <a:pt x="370" y="2275"/>
                </a:lnTo>
                <a:lnTo>
                  <a:pt x="355" y="2254"/>
                </a:lnTo>
                <a:lnTo>
                  <a:pt x="336" y="2233"/>
                </a:lnTo>
                <a:lnTo>
                  <a:pt x="318" y="2212"/>
                </a:lnTo>
                <a:lnTo>
                  <a:pt x="301" y="2188"/>
                </a:lnTo>
                <a:lnTo>
                  <a:pt x="284" y="2167"/>
                </a:lnTo>
                <a:lnTo>
                  <a:pt x="266" y="2146"/>
                </a:lnTo>
                <a:lnTo>
                  <a:pt x="249" y="2125"/>
                </a:lnTo>
                <a:lnTo>
                  <a:pt x="234" y="2106"/>
                </a:lnTo>
                <a:lnTo>
                  <a:pt x="218" y="2087"/>
                </a:lnTo>
                <a:lnTo>
                  <a:pt x="203" y="2069"/>
                </a:lnTo>
                <a:lnTo>
                  <a:pt x="190" y="2050"/>
                </a:lnTo>
                <a:lnTo>
                  <a:pt x="174" y="2033"/>
                </a:lnTo>
                <a:lnTo>
                  <a:pt x="161" y="2018"/>
                </a:lnTo>
                <a:lnTo>
                  <a:pt x="149" y="2002"/>
                </a:lnTo>
                <a:lnTo>
                  <a:pt x="136" y="1987"/>
                </a:lnTo>
                <a:lnTo>
                  <a:pt x="124" y="1972"/>
                </a:lnTo>
                <a:lnTo>
                  <a:pt x="113" y="1958"/>
                </a:lnTo>
                <a:lnTo>
                  <a:pt x="103" y="1945"/>
                </a:lnTo>
                <a:lnTo>
                  <a:pt x="94" y="1931"/>
                </a:lnTo>
                <a:lnTo>
                  <a:pt x="84" y="1920"/>
                </a:lnTo>
                <a:lnTo>
                  <a:pt x="75" y="1906"/>
                </a:lnTo>
                <a:lnTo>
                  <a:pt x="65" y="1897"/>
                </a:lnTo>
                <a:lnTo>
                  <a:pt x="57" y="1885"/>
                </a:lnTo>
                <a:lnTo>
                  <a:pt x="50" y="1876"/>
                </a:lnTo>
                <a:lnTo>
                  <a:pt x="44" y="1868"/>
                </a:lnTo>
                <a:lnTo>
                  <a:pt x="38" y="1858"/>
                </a:lnTo>
                <a:lnTo>
                  <a:pt x="32" y="1851"/>
                </a:lnTo>
                <a:lnTo>
                  <a:pt x="27" y="1843"/>
                </a:lnTo>
                <a:lnTo>
                  <a:pt x="21" y="1837"/>
                </a:lnTo>
                <a:lnTo>
                  <a:pt x="17" y="1830"/>
                </a:lnTo>
                <a:lnTo>
                  <a:pt x="13" y="1826"/>
                </a:lnTo>
                <a:lnTo>
                  <a:pt x="11" y="1820"/>
                </a:lnTo>
                <a:lnTo>
                  <a:pt x="7" y="1816"/>
                </a:lnTo>
                <a:lnTo>
                  <a:pt x="5" y="1812"/>
                </a:lnTo>
                <a:lnTo>
                  <a:pt x="5" y="1808"/>
                </a:lnTo>
                <a:lnTo>
                  <a:pt x="3" y="1805"/>
                </a:lnTo>
                <a:lnTo>
                  <a:pt x="2" y="1799"/>
                </a:lnTo>
                <a:lnTo>
                  <a:pt x="2" y="1793"/>
                </a:lnTo>
                <a:lnTo>
                  <a:pt x="0" y="1783"/>
                </a:lnTo>
                <a:lnTo>
                  <a:pt x="2" y="1774"/>
                </a:lnTo>
                <a:lnTo>
                  <a:pt x="2" y="1760"/>
                </a:lnTo>
                <a:lnTo>
                  <a:pt x="2" y="1747"/>
                </a:lnTo>
                <a:lnTo>
                  <a:pt x="3" y="1732"/>
                </a:lnTo>
                <a:lnTo>
                  <a:pt x="5" y="1716"/>
                </a:lnTo>
                <a:lnTo>
                  <a:pt x="7" y="1697"/>
                </a:lnTo>
                <a:lnTo>
                  <a:pt x="11" y="1678"/>
                </a:lnTo>
                <a:lnTo>
                  <a:pt x="13" y="1657"/>
                </a:lnTo>
                <a:lnTo>
                  <a:pt x="17" y="1634"/>
                </a:lnTo>
                <a:lnTo>
                  <a:pt x="21" y="1609"/>
                </a:lnTo>
                <a:lnTo>
                  <a:pt x="25" y="1582"/>
                </a:lnTo>
                <a:lnTo>
                  <a:pt x="28" y="15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任意多边形 8"/>
          <p:cNvSpPr/>
          <p:nvPr/>
        </p:nvSpPr>
        <p:spPr>
          <a:xfrm>
            <a:off x="1614600" y="2741760"/>
            <a:ext cx="633708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旄          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2000880" y="228600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1"/>
          <p:cNvSpPr/>
          <p:nvPr/>
        </p:nvSpPr>
        <p:spPr>
          <a:xfrm>
            <a:off x="5739120" y="234144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2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054160" y="3149640"/>
            <a:ext cx="578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旄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头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胡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空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帏           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惊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1904760" y="2590920"/>
            <a:ext cx="9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4"/>
          <p:cNvSpPr/>
          <p:nvPr/>
        </p:nvSpPr>
        <p:spPr>
          <a:xfrm>
            <a:off x="5305320" y="2592360"/>
            <a:ext cx="11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20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9"/>
          <p:cNvSpPr/>
          <p:nvPr/>
        </p:nvSpPr>
        <p:spPr>
          <a:xfrm>
            <a:off x="2512080" y="3884760"/>
            <a:ext cx="8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0"/>
          <p:cNvSpPr/>
          <p:nvPr/>
        </p:nvSpPr>
        <p:spPr>
          <a:xfrm>
            <a:off x="6449760" y="3884760"/>
            <a:ext cx="11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"/>
          <p:cNvSpPr/>
          <p:nvPr/>
        </p:nvSpPr>
        <p:spPr>
          <a:xfrm>
            <a:off x="1494000" y="3359160"/>
            <a:ext cx="56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4"/>
          <p:cNvGrpSpPr/>
          <p:nvPr/>
        </p:nvGrpSpPr>
        <p:grpSpPr>
          <a:xfrm>
            <a:off x="2019240" y="2867040"/>
            <a:ext cx="5334120" cy="1373400"/>
            <a:chOff x="2019240" y="2867040"/>
            <a:chExt cx="5334120" cy="1373400"/>
          </a:xfrm>
        </p:grpSpPr>
        <p:sp>
          <p:nvSpPr>
            <p:cNvPr id="127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6"/>
                  </a:cubicBezTo>
                  <a:lnTo>
                    <a:pt x="10800" y="10374"/>
                  </a:lnTo>
                  <a:cubicBezTo>
                    <a:pt x="10800" y="10587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6"/>
                  </a:cubicBezTo>
                  <a:lnTo>
                    <a:pt x="10800" y="21174"/>
                  </a:lnTo>
                  <a:cubicBezTo>
                    <a:pt x="10800" y="21387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3"/>
            <p:cNvSpPr/>
            <p:nvPr/>
          </p:nvSpPr>
          <p:spPr>
            <a:xfrm>
              <a:off x="2307960" y="2867040"/>
              <a:ext cx="504540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àn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（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难民 大难临头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nán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（难题   难分难解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3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1"/>
          <p:cNvSpPr/>
          <p:nvPr/>
        </p:nvSpPr>
        <p:spPr>
          <a:xfrm>
            <a:off x="1274760" y="2179800"/>
            <a:ext cx="74563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社稷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旄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笳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矩形 1"/>
          <p:cNvSpPr/>
          <p:nvPr/>
        </p:nvSpPr>
        <p:spPr>
          <a:xfrm>
            <a:off x="1714680" y="2211480"/>
            <a:ext cx="62956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土神和谷神，古代君主都祭祀社稷，后来就用社稷代表国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因为蔺相如不计较个人恩怨，以江山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社稷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为重，所以才成就了“负荆请罪”的佳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古代在旗杆头上用牦牛尾做装饰的旗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胡笳，我国古代北方民族的一种乐器，类似笛子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10:04:48Z</dcterms:modified>
  <cp:revision>4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